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A270-AB66-437D-B7B7-6BB41D82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6649-CB9D-4CAE-A1C8-19EF50DE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73991-BE0B-4FDC-B1D1-E5A7B9DE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986F-01F9-4873-9D90-816C3B9D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6AA2-FB5F-4FE5-8B01-BD00F787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B6F0-7D02-4E49-B9E6-8A9E912C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7AC9-33CD-4C14-90BA-AF0D31B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39F6-3751-4653-91F4-028261E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2643-B524-4627-9A36-E9058A2F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411F-B716-46EB-B211-C421EEB4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728F3-6896-4266-92A4-20F689AB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D9E6-9618-4650-9264-D3EA1A57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0A37EC67-A111-4996-89AA-B3C8EB14202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3 -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IL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the AIL is moved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succ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su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bu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 locked – pushbuf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inn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p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lock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il was fl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restar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log writ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 log was 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E535-B5E1-462B-A383-A746058646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Quota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_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quot_d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misse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in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qwant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ke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aked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active da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D14F-B93F-41EA-9BE7-74B377D9E2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sta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misc/xfsstats.pl 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C260C-873D-4A96-ABC4-DA6D06C2B3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3F9C-DF3E-4EBE-A8D8-4BDDB004B6F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nito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Dave Wright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DC6A-DC5D-4B2D-9A5E-33B7EE37EF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tch grep inode /proc/sla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ar –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ODO: Need to 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abtop -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the sl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7A19-D1BB-4115-8A44-2F23B5802F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Inod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emp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looks for ino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ou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 foun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recycl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fails because inode was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mis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had to go to disk for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d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times missed but found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reclai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recyled the inode’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rch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changed inod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lush_cou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s are being flu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c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s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inod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not able to in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9FCD-3E30-4A16-BFCD-E67BE0F294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Directory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 name directory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cre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re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tden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den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5DA9-9AB1-4451-906A-98A87B42CE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File Attribut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g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” oper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s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se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remove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lis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lis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8C83-37B8-4C3A-B499-72FAF29903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llocation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llocation btree lookup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eee.compa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compares in alloc btre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ins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insert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del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delete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8224-446D-4F66-AB46-843BA63636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Block Map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read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write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un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add_ex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insertions fo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del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look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cmp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btre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comp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ins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del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5136-BC78-4576-9947-5308778792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Journaling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nsactions waiting to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a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sync transaction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emp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hat did not do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uffe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lock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noiclo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entry attempt during memory fl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fs_log_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_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s_log_force_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39EED-3990-43C6-9B79-75DC7178C2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5:40Z</dcterms:modified>
  <cp:revision>343</cp:revision>
  <dc:subject/>
  <dc:title>Possible CXFS Administration and Monitoring Interfaces</dc:title>
</cp:coreProperties>
</file>