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B95D-AA16-4C8B-B2FD-EAD7930D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6887-9826-4FD7-9516-5097E1D1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800A-EF36-4739-B8E4-596D199E6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698C-A89A-45A0-9962-9A858608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1E2F-AD68-4B8E-B65F-87E2E889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0DAF-768D-481F-B5E9-509DFEF9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2DF5-3584-42C9-AAD6-80741DE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0854-81EB-489A-982F-E5EE345F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D8D6-CC84-46B4-8C96-7492B055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E707-9810-46F3-BDC5-85BC19D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1B8A-BF81-4D9D-BD1D-A997F312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EF03-FAE6-4283-BCB1-3AEADCC9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E28F69EE-8F43-48BD-8CA3-82A3C34AE530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4 - mk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Filesystem Im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 allows you to create a filesystem as a regula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can be used to create a filesystem on a loop-ba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file=1,name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=filename,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ize=2g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BD05-EC33-454B-8AB7-BC659B010E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Prototype Filesystem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835C-409B-4749-B76A-7A8AF5024A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A5AD-C1A9-4E92-A8CF-C699A550148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rea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.xfs supports a large number of options for configuration a large number of different XFS file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e mkfs.xfs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s = 100 sectors = 100 x 512 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b = 100 blocks = 100 x 4 kilo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k = 100 *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Assuming 512 bytes sectors and 4 KB file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N option can be used to show filesystem parameters without creating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so provides the capability to pre-initialise the filesystem with directories and  inodes, which is useful 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4B66-0491-4D89-B578-4AD36DD0CD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tripe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igning file data on stripe width boundaries can significantly improve performance on large R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2MB write to filesystem with a 2MB stripe width and 512KB stripe unit will result in four I/Os, one to each lun. Without alignment this would often require two I/Os to one disk, and one I/O to the other three, taking longer than it sh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create a filesystem with a stripe unit of 1MB for an 8+1 RAID you would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nit=2048,swidth=16384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=1m,sw=8m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8EDD-B38F-4761-A1CD-F1AFA5E120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Inode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mkfs inode options allow the user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size of the inode from the default 256 bytes to up 2048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maximum number of inodes in the filesystem, defaults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tended attribute allocation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options may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ere the inode is allocated in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needs to be read from disk to read the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may be associated with the inode before data goes out of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allocate 512 bytes to each i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i size=512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51FF-EF3C-473B-B0B2-D1F14F72F4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Directory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5C26-A109-4AF5-B10B-AE62B8865D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ecto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ED3E-A6ED-47F5-959A-1BDE80502A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Exte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journal log can be on a different device to the rest of th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 least 512 blo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more than 64K blocks or 128MB, whichever is sm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faults to maximum size for &gt;1TB file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g device could be a device with better IOPS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5K RPM disk or battery-back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869000"/>
            <a:ext cx="57600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7AAF-3C87-4A34-B1E4-E390FDDD6D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Log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3286-07FF-49D9-BA56-28CF64D47F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- Realtim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404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ly designed for media streaming requiring predictable la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ltime volume tuned for large files without small inode clu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tadata and file data on separate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itmap allocator only has to manage file data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–r 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,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rt_devic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is the device for the file data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vice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s for the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eives limited testing and support in 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869000"/>
            <a:ext cx="57636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869000"/>
            <a:ext cx="647640" cy="1008000"/>
          </a:xfrm>
          <a:prstGeom prst="can">
            <a:avLst>
              <a:gd name="adj" fmla="val 25000"/>
            </a:avLst>
          </a:prstGeom>
          <a:solidFill>
            <a:srgbClr val="99cc66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3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689E-86F4-4C89-8A16-1A9AF2AFCB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6:17Z</dcterms:modified>
  <cp:revision>338</cp:revision>
  <dc:subject/>
  <dc:title>Possible CXFS Administration and Monitoring Interfaces</dc:title>
</cp:coreProperties>
</file>