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06D5F-DEE2-4A20-8CD3-5D2E1BA2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BD9F-2130-4DFE-86D0-C81B6FF1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FBBE0-A6F8-4BF7-A93F-C2ED8026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65095-9C31-474A-8422-087A0021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4174F-60DC-4BBB-8EE1-48BBB620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15C0B-4A64-4C78-9F59-D38E621F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1355E-12D8-43A0-8228-AC83BEFE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16946-9F1C-4229-971F-C602F99E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3B95D-0DEE-483B-982E-B5C37911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0A3B7-4043-4A29-893B-CF0719B5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FF9EC-BE6B-40C9-9225-F1BFF8D9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9851A-58A9-4EB8-942B-987E22C0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386BC863-D1AF-4606-8C2C-5AFF54D0B875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ss.sgi.com/bugzilla/show_bug.cgi?id=723" TargetMode="External"/><Relationship Id="rId2" Type="http://schemas.openxmlformats.org/officeDocument/2006/relationships/hyperlink" Target="http://oss.sgi.com/bugzilla/show_bug.cgi?id=723" TargetMode="External"/><Relationship Id="rId3" Type="http://schemas.openxmlformats.org/officeDocument/2006/relationships/hyperlink" Target="http://oss.sgi.com/bugzilla/show_bug.cgi?id=723" TargetMode="External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0 - Repai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6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is stage, the filesytem is in a mountable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the directories analysing all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directories with any corruption are rebuilt with whatever entries can be recov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ssing root directory is recre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inodes that are in a directory are marked reac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, any unreached inodes are put into lost+f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E7B51-AC21-48EA-9F38-603FA43B73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7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links for inodes are corrected based on the data collected in phase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4E5FB-09E7-41F8-8E4D-A8C90DD444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iaging xfs_check and xfs_repair probl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st of the time, inode information is requir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inode &lt;inode numb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root inode number can be derived from the superbloc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sb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print roo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or directories, we can also dump the contents from the extent list shown in the ino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dblock &lt;file offset in block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irectories have file offsets typically starting at 0, 8388608 and 16777216. Each of these offsets stores different information for a direc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filename and inode numbers at 0, hash values at 8388608 and free space information at 1677721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50F0E-6168-441D-8605-38FB2205EAE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and xfs_check should agre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8040" y="1052640"/>
            <a:ext cx="4160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one of the tools reports a problem when the other passed the filesystem, there is a problem with one of the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st likely xfs_re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ss.sgi.com/bugzilla/show_bug.cgi?id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=7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_check finds some errors on the filesys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link count mismatch for inode 387655 (name ?), nlink 0, counte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link count mismatch for inode 13313696 (name ?), nlink 0, counte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link count mismatch for inode 17197100 (name ?), nlink 0, counte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_repair reports no proble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200" y="1052640"/>
            <a:ext cx="4160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1 - find and verify superblock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2 - using internal 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zero log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scan filesystem freespace and inode map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found root inode chu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3 - for each AG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scan and clear agi unlinked list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process known inodes and perform inode discovery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process newly discovered inode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4 - check for duplicate block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setting up duplicate extent list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clear lost+found (if it exists) 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clearing existing "lost+found" i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marking entry "lost+found" to be dele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check for inodes claiming duplicate block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Phase 5 - rebuild AG headers and tree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reset superblock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6 - check inode connectivity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resetting contents of realtime bitmap and summary in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ensuring existence of lost+found direct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ing filesystem starting at /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rebuilding directory inode 1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al finished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ing all unattached subtrees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als finished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moving disconnected inodes to lost+found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7 - verify and correct link count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E9E6B-2E16-47B8-B2F3-A2F74AD18AA1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ump the offending inodes…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xfs_db -c "inode 387655" -c "print" /dev/sda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magic = 0x494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mode = 0407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version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format = 1 (loc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nlinkv1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size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nblock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extsize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nextent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unlinked =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fdir2.hdr.coun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fdir2.hdr.i8coun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fdir2.hdr.parent.i4 = 1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42B8-3DA3-44D3-9F39-A04B678F6E9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and Repair Fails – Corrupted Lo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log is corrupted you will see an error like: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 mount &lt;filesystem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unt: Unknown error 9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 dmesg | tail -20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esystem “&lt;filesystem&gt;": xfs_inode_recover: Bad inode magic number . . 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esystem "dm-0": XFS internal error xlog_recover_do_inode_trans(1) at line 2352 of file fs/xfs/xfs_log_recover.c. Caller 0xffffffff88307729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ourier New"/>
              </a:rPr>
              <a:t>XFS: log mount/recovery failed: error 9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ourier New"/>
              </a:rPr>
              <a:t>XFS: log mount fail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 xfs_repair &lt;devic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hase 1 - find and verify superblock...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Phase 2 - using internal log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         - zero log...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ERROR: The filesystem has valuable metadata changes in a log which needs to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be replayed.  Mount the filesystem to replay the log, and unmount it befor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re-running xfs_repair.  If you are unable to mount the filesystem, then us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the -L option to destroy the log and attempt a repair.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Note that destroying the log may cause corruption -- please attempt a mount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of the filesystem before doing thi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Useful information can be collected for tria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/usr/sbin/xfs_logprint –C &lt;filename&gt; &lt;devic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/usr/sbin/xfs_logprint -t &lt;devic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ut in this case, the only option may be to throw the log aw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ourier New"/>
              </a:rPr>
              <a:t># xfs_repair -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8BAAC-A099-4271-8839-9024AFEFD66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716B4-BC61-4DA0-8B5A-E82C5C177CF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tro to checking and repairing filesystems, why do we need to do thi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4E8D8-1E7A-4CDB-BE46-72F7BBB499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check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check is a script that runs xfs_db to do a filesystem che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check" command in xfs_db scans all the metadata structures for in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check uses a different codebase to xfs_re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check and xfs_repair can be used to cross check each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s_check vs xfs_repair -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0A9E2-C6C0-4E09-80C2-6214BF1C58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repair scans the filesystem and corrects any problems encount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repair performs a scan and repair in seven ph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hase relies on the previous phase to fix a certain class of potential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repair uses libxfs which is a partial port of the XFS kernel code to user-sp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00761-45CE-4D2F-8FB5-8C8F2B1BF3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1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, verify and fix super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uperblock is not found, xfs_repair will st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up a virtual mount structure for the common XFS code base (libxfs) to work fr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C14AD-49A7-47DC-9657-72FCA1359D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2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 the AG header structures (AGI, AGF and AGFL) and scans the AGF and AGI btre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EC96A-82C5-4B0B-A849-BA66542298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3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AGI btree from phase2, scan the inode tree, processing the unlinked list for deleted inodes and finding possible missing inode clu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 all the found inodes, recording used filesytem blocks (ext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irectory inodes, scan the directory structure for more lost ino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d inodes are trashed including unrecoverable corrupted directo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74B08-CB39-48E3-91D5-7DDA03C64C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4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inode extents again. Any inode with an extent covering used data is trash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65CA5-4ECE-45E3-AEB9-55D55BD9EC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5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build AG headers and structures including the AGI btree, AGF btrees and AGFL regardless whether any errors have been found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time inodes are also reconstru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8BF82-EACA-4C56-8C72-0B2C0CF83B7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4:10Z</dcterms:modified>
  <cp:revision>335</cp:revision>
  <dc:subject/>
  <dc:title>Possible CXFS Administration and Monitoring Interfaces</dc:title>
</cp:coreProperties>
</file>