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ED12-63D3-480C-BAE2-9DE579631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8B7C-31B2-465E-B5C4-630E43D6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BF3A-F489-4A4C-81C9-B394B0BF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E602-3AC1-45E8-A47A-EF3919F3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FA42-1AD9-45D0-B516-2C9E34C1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F8F4-F5F7-44A6-85FD-D931337A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67AA-A0E6-430A-9794-E8CBBFDD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ED96-43C8-470C-B5E2-A0A03B8F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F807-7876-4FFC-B041-85A8A660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4B426-DF82-4668-9ED7-53AD086A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B26E-9E4C-42D2-ABFE-87A7F91F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FB37-569C-4C56-9809-F517210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F76BB-BDA6-4499-A0B9-A776A873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9C6C7569-93B0-4E63-8A09-34EBF2B7ABB8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cvs@oss.sgi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3 - Bui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tutorial describes how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tain the latest XFS sourc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build and install the commands and kernel compon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following prerequisite RPMs should be inst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api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headers and installed can be built from source, but these RPMs will normally su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3EED7-2E58-4342-8C40-BC6233DBCB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40099"/>
                </a:solidFill>
                <a:latin typeface="Arial"/>
              </a:rPr>
              <a:t>XFS Source C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st XFS is available via CVS from oss.sgi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export CVSROOT=':pserver: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cvs@oss.sgi.co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/cv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gging in to :pserver:cvs@oss.sgi.com:2401/c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password: &lt;password is “cvs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checkout: Updating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.gitign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OP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RE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C677-7819-4EA6-9FC0-F899EFCAE3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the XFS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PM packages will be placed in RPMS/&lt;ar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RPMS/x86_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progs-2.8.15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dump-2.2.43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 RPM packages will be placed in SRP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0582-00D6-4CE4-8228-5D68527D74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Kernel Configuration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052640"/>
            <a:ext cx="84740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FS can be built as a module or statically linked into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quota disk lim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data management API (requires generic kernel DMAPI sup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lternate access control models (ie SELinux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POSIX_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ccess Control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REAL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realtime allocator that provides deterministic data r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DE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debugging features in the build (ie ASSERTs, sanity checking code, etc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TR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support for activity tracing of inodes, buffers, locks, the log, I/O path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108B6-642E-45DD-8D3D-76276031A1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 Kernel Compon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gure and build kernel and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x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bz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make modules_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XFS wasn't built as a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arch/&lt;arch&gt;/boot/bzImage /boot/vmlinu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System.map /boot/System.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re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8430-C8C8-464E-A15A-4186AB0E16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Load XFS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 the XF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s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ule                  Size  Us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dmapi              32852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quota              85120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                   848864  2 xfs_dmapi,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now mount XFS filesystem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F396-7FBC-4D01-9885-4AE34112FC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0D2B-9B39-4268-B107-5AFE21CEFC2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5:27Z</dcterms:modified>
  <cp:revision>334</cp:revision>
  <dc:subject/>
  <dc:title>Possible CXFS Administration and Monitoring Interfaces</dc:title>
</cp:coreProperties>
</file>