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FE860-955D-4A64-912A-54135192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5109C-7723-436B-9EEB-54C4DC67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C0650-2E56-4506-8044-2DCC2FDD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4FBDB-CC37-49B9-97EC-C8C50E2C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13B0E-3CC4-492D-A231-59272435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5E4F3-C683-4963-9DB6-7422A705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B71E5-9600-4D8E-9586-27CC3B8D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E3E6C-B20B-4C01-89F1-434D7E1C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0885F-33D4-4327-97C2-F858BF26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5E50D-53F1-422F-81AC-60858E5E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D4FD7-16F6-40A1-B640-C6C6B3ED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04423-D7CF-481B-91F7-4F7698C6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94C58B3C-629D-4524-A804-5AACBC3E7C88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6 - Alloc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32 bit Inodes on &gt;1TB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n 32 bit inode numbers are used on a volume larger than 1TB in size, several changes occ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100TB volume using 256 byte inodes mounted in the default inode32 mode has just one percent of its space available for allocating ino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will reserve the first 1TB of disk space exclusively for inodes to ensure that the imbalance is no worse than this due to file data alloca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t is no longer possible for file data to reside in the same AG as the parent directory's i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will instead "rotor" through the upper AGs as it allocates space for files, putting each file in a new AG to evenly spread the I/O 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80B5B-14A4-4D04-A93C-2A249E79B88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otor Ste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formance of some workloads will suffer from the distribution each file in a different  AG, so the "rotor step" sysctl was added adjust this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to keep at least a second of ingested 24fps video files in the same AG before moving to the next A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sysctl fs.xfs.rotor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s.xfs.rotorstep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sudo sysctl –w fs.xfs.rotorstep=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s.xfs.rotorstep =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the rotorstep value is a global one, so setting it will affect the behaviour of all mounted file systems over 1TB in size that use 32 bit inod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ACE9C-5038-46AF-AF49-A4663E9A9C2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ltime Allocato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ertain classes of applications require deterministic latencies on file allocation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performance of the standard XFS allocator varies depending on the internal data structures used to manage the filesystem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realtime allocator uses a bitmap algorithm that gives consistent allocation latencies regardless of the filesystem's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y using the realtime allocator in conjunction with an external log volume, it's possible to remove most of the unpredictability in disk response times that's caused by metadata overhe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314A8-7F38-4390-9A18-3F60A0F70F6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ltime Allocator Limita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practice, the realtime allocator is not widely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t effectively uses a single large allocation group with a single set of data structures losing the parallelism of XFS’s allocation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locks associated with this central data structure result in the serialisation of concurrent operations to a realtime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realtime allocator is incapable of maintaining a spatial separation on disk for concurrent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t tries to start new files at random points in the bitmap to reduce this problem but this has a negative impact on some work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6EFFE-5CC0-414C-AA44-9E5E8DCF60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aditional allocator impact on some workload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ertain class of applications will write many large files to a directory in seq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film scanner ingesting video may write each video frame to a separate file. To playback the video frames in realtime its important that these files are contiguous on disk for optimal read-ahead performance by the hardware RA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 24 frames per second, each frame is needed every 40ms, so it is important to keep the disks busy and reading into cache the next frame to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0C5F0-A20B-4F81-9D95-B1279800619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256068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aditional Stream Allo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8040" y="1628640"/>
            <a:ext cx="2865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itially each directory is allocated to a separate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ach stream writes to that AG until it is f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dditional allocations now go in the next consecutive AG that has enough free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ultiple streams will start writing to the same AG, interleaving their files and negating any read-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5591160" cy="569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69332-D3A4-4EE6-9AE5-F54EE9DA99F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RAID performance with interleaved strea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System Performance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All Ports     Port 1     Port 2     Port 3     Port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ad  MB/s:      183.9       45.8       46.8       46.3       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Write MB/s: 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Total MB/s:      183.9       45.8       46.8       46.3       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ad  IO/s:        520        133        129        129        1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Write IO/s:          0          0          0 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Total IO/s:        522        134        131        128        1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ad Hits:         1.3%       1.6%       2.2%       0.6%       0.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Prefetch Hits:     0.8%       1.1%       1.1%       0.6%       0.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Prefetches:       46.3%      46.3%      46.0%      46.1%      46.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Writebacks:        0.0%       0.0%       0.0%       0.0%       0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build MB/s: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Verify MB/s: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Total      Reads     Writes      Pieces   Reads     Wr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Disk IO/s:          518        518          0        1:      491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Disk MB/s:        544.6      544.6        0.0        2:     2989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Disk Pieces:      65710      65710          0        3:       34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BDB Pieces:                      0                   4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5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Cache Writeback Data:     0.0%                      6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build/Verify Data:      0.0%    0.0%              7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Cache Data locked:        0.0%                      8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1413000"/>
            <a:ext cx="2374920" cy="1739880"/>
          </a:xfrm>
          <a:prstGeom prst="rect">
            <a:avLst/>
          </a:prstGeom>
          <a:noFill/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With only 1.3% read cache hits, RAID is reading </a:t>
            </a:r>
            <a:r>
              <a:rPr b="1" lang="en-US" sz="1800" spc="-1" strike="noStrike">
                <a:solidFill>
                  <a:srgbClr val="363636"/>
                </a:solidFill>
                <a:latin typeface="Arial"/>
              </a:rPr>
              <a:t>545MB/s</a:t>
            </a: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 to return 184MB/s to the client (200% backend overhead)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4221000"/>
            <a:ext cx="936720" cy="503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2852640"/>
            <a:ext cx="79236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1628640"/>
            <a:ext cx="79200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EF569-0EE3-46D6-AE80-47F5BC0CB33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streams Allocato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new allocation algorithm was added to XFS that associates a parent directory with an AG until a preset inactivity timeout elap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t in SLES10, planned for SLES10S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stream that moves to a new AG will cause that AG to be locked, so other streams looking for a new AG will not use the sam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new algorithm is called the Filestreams allocator and it is enabled in one of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ilesystem is mounted with the -o filestreams option,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ilestreams chattr flag is applied to a directory to indicate that all allocations beneath that point in the directory hierarchy should use the filestreams allo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streams will have a negative impact on workloads that continue to grow files in the same directory, causing more fragmentation than the default allo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534E7-033C-476B-BBD7-AAD2000EBB8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RAID performance with filestrea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ystem Performance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ll Ports     Port 1     Port 2     Port 3     Port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d  MB/s:      299.1       74.0       74.7       75.1       75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rite MB/s: 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MB/s:      299.1       74.0       74.7       75.1       75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d  IO/s:        840        209        210        211        2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rite IO/s:          0          0          0 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IO/s:        836        209        210        208        2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d Hits:        99.5%      98.3%      99.6%     100.0%     100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efetch Hits:    98.8%      97.6%      98.9%      99.6%      99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efetches:       42.0%      41.5%      42.0%      42.9%      41.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ritebacks:        0.0%       0.0%       0.0%       0.0%       0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build MB/s: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erify MB/s: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     Reads     Writes      Pieces   Reads     Wr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isk IO/s:          614        614          0        1:     39068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isk MB/s:        345.5      345.5        0.0        2:       111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isk Pieces:      39290      39290          0        3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DB Pieces:                      0                   4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che Writeback Data:     0.0%                      6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build/Verify Data:      0.0%    0.0%              7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che Data locked:        0.0%                      8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1413000"/>
            <a:ext cx="2303280" cy="1465560"/>
          </a:xfrm>
          <a:prstGeom prst="rect">
            <a:avLst/>
          </a:prstGeom>
          <a:noFill/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Almost all data now found in RAID cache, only 15% backend disk I/O overhea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2360" y="1628640"/>
            <a:ext cx="79200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2852640"/>
            <a:ext cx="79236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92360" y="4221000"/>
            <a:ext cx="936720" cy="503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3E5A4-9B40-4D36-998E-7A40D426FA1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ragment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db -r /dev/sd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 -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fragmentation percen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 -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fragmentation percen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sp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6B376-FD6D-4982-BEF4-1F73D35444A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Polic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default allocation behaviour of XFS for new files is to place them in the same allocation group as their parent direc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ince files and their parent directories are often accessed in close succession, this minimises costly disk see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allocator will also attempt to place newly created directories in different allocation grou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bined, these policies help group directories of files together on disk, even if they're being written to concurren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ation policies in XFS can change du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32 bit inode numbers are used on large file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ome moun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20B22-50B2-43D1-AA63-A1BE7CA98E8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ragmentation Examp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 xfs_db –r d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b: fre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om      to extents  blocks    p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      1   94807   94807   1.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      3   63041  145012   2.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       7   30374  152890   2.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8      15   19437  207742   2.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      31   15173  331559   4.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2      63   14099  636086   9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64     127   16804 1497220  21.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28     255    8390 1470464  21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6     511    3003 1033383  14.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12    1023     810  551813   7.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24    2047     258  370811   5.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48    4095     101  282202   4.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096    8191      27  145550   2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b: frag 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tual 45966, ideal 12398, fragmentation factor 73.0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b: frag -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tual 2104856, ideal 2100484, fragmentation factor 0.2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A365C-EEEF-4D1A-AB8E-961F0FB3AF2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fs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57C86-DC51-4A1E-9E6A-2D603FCFD78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F4401-81C8-42C3-9FF1-BC175E625BE1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Policy - Directori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ew directories are placed in different AGs where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atch the inode numbers as directory inodes are crea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&gt; mkdir 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&gt; ls -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total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131 drwxr-xr-x 2 sjv users 6 2006-10-20 12:12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33554624 drwxr-xr-x 2 sjv users 6 2006-10-20 12:12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D5FC3-65BB-479C-8A3E-4F00CFE8B6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Policy - Fi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s are created in the same AG as their parent directory where possible, which is also evident in their inode numb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&gt; touch a/1 b/1 a/2 b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&gt; ls -1id * */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31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32 a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33 a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33554624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33554625 b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33554626 b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99682-EA77-4647-B8D2-CA34A4A0C1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 Numb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inode on disk has a unique inode number associated with it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 requirement that inode numbers be persistent across unmounts and reboots, so once an inode is written to disk its inode number is fix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erformance reasons it must be possible to quickly find an inode on disk using its inode number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uses the physical location of the inode on disk to encode the inode number, which makes finding the inode on disk using the inode number a trivial tas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E23A0-1DAA-4D75-8BDC-A892221266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 Number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ode's location consists of three distinct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llocation group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 system block number within its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inode number inside that file system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bits required to store each of these values varies with the filesystem ge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arger filesystems can easily require more than 32 bits, which can limit inode allocation to a region at the start of the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F722E-DFFB-49C8-B01B-F408FFA9A0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 Number Siz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s aren't free to use inode numbers of arbitrary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interfaces and legacy software products often mandate the use of 32 bit inode numbers even on systems that support 64 bit inod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a problem on large file systems, since 32 bit inode numbers only provide enough bits to encode inode locations in the first 1TB of a volume when 256 byte inodes are used, up to 8TB in the case of 2kB inode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best performance, a file system needs to keep a file's data blocks close to its inode to minimise seeks when performing I/O.  XFS's ability to do this suffers on large volumes when 32 bit inode numbers ar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9C77E-41BA-4449-B0F3-E57D275FE3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32bit and 64bit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efault, XFS will use 32 bit inod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ystem supports it, the -o inode64 option to mount to allow 64 bit inode number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an inode has been written somewhere on the disk that requires a 64 bit inode number, the file system can no longer be used with 32 bit inod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inode64 mount option should not be removed once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(IRIX can move inodes to 32 bit numbers with 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xfs_reno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, this tool has not been ported to Linux, y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C9967-0E6E-4C26-8FDB-C2E171268D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32bit and 64bit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 numbers are stored in big endian format on disk, and host endian format in-core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that pass 64 bit inode numbers using 32 bit variables will truncate the 32 most-significant b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XFS stores the AG number an inode belongs to in the most significant bits, a result of this truncation can be an inode number that points to an inode in a lower AG by mistake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at inode number will result in either a lookup on the incorrect inode, or the referencing of an area on disk that doesn't contain inodes at a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DAB0-1A50-4C4A-86FB-08F93400708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58:26Z</dcterms:modified>
  <cp:revision>354</cp:revision>
  <dc:subject/>
  <dc:title>Possible CXFS Administration and Monitoring Interfaces</dc:title>
</cp:coreProperties>
</file>