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C26D-952B-43F4-AEAE-C1EAA830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833F-BC5B-4D4A-A518-CA4347EB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BC88-07A3-4407-B58B-A67A1F5E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7910-D339-42E3-9C9C-B3FB1FC9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707F-2C6D-4A75-A852-7DA77C1F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FD9C-D13E-497E-89FD-47A95000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E1C3-6FC8-45ED-B74D-5853CA29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3F00F-4F07-4502-9B80-8B506D9A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D3308-8D44-4B3C-855F-243D299E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5CBD-A755-4D64-97BD-29F44478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C311-3E59-4D51-AD0A-3366AA20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ACCFA-0E3C-40AC-BFFF-07E77581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A62E69FF-A280-4936-AE59-BED47C08F5B3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91640" y="43783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faq.html#wcache" TargetMode="External"/><Relationship Id="rId2" Type="http://schemas.openxmlformats.org/officeDocument/2006/relationships/hyperlink" Target="http://oss.sgi.com/projects/xfs/faq.html#wcach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5 - Mou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User/Group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B5EB8-B4AB-425F-ADE4-F261076AE3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Project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59729-593B-440D-86A9-9C51CD7870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inf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7F60-CF0E-4246-9DF9-08C9D208DD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646F-6675-44D1-9C42-457076950CE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un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 some XFS-specific mount options and how they affect the behaviour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63AE-AA22-4430-9DDE-6B95C05396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inux tre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ation/filesystems/xfs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/fs/xfs_vfsops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options are specific to XF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common Linux mount options does XFS not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BFF1-B1C7-4172-BC6B-62F25DBEE0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Log &amp; Realtime Devi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6B56-42E4-49C0-A499-FDC1782465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default XFS uses 32bit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’s number roughly equates to its location on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bination of allocation group, cluster and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on Linux is 32bit on 32bit mach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y change in future ker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place 32bit inodes in the first tera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ing a larger inode size means less inodes per cluster allowing 32bit inodes to be located beyond the first tera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inode64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option on 64bit machines allows inodes to span the entir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try to put file extents in same allocation group as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all backup tools support 64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ode number used to identify file between back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601AD-3BC2-437B-88A8-8CE88B580F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Allocator Hi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CCB5-3E3D-4529-AA89-E37CF9A216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Stri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E4BD-3E3E-4792-867B-1F4C970B2B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42030-0EA7-4C04-BCFE-C57C069542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Barri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cache on disk can result in filesystem corruption since XFS is told the log transaction has reached the disk when in fact it is still in the disk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journal log assumes that the log transaction is updated on disk before the metadata is updated, but this may not be true with write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able to issue write barriers if the device suppor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sures that the log entry is written before any oth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barriers are enabled by default in SLE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will attempt to determine is barriers are supported and will issue a warning if they are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nobarri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option disables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projects/xfs/faq.html#w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D59C9-D379-4243-A847-B9EB6F94E4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7:00Z</dcterms:modified>
  <cp:revision>333</cp:revision>
  <dc:subject/>
  <dc:title>Possible CXFS Administration and Monitoring Interfaces</dc:title>
</cp:coreProperties>
</file>