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7F665-720A-4ACD-AF60-7133CD31A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AE1B9-5B91-44EC-AC95-EFAF2318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19BF9-4B1C-40E5-835A-D498037D1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8D5B8-799B-4E2A-8E60-37383BC34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063AE-BFA9-4AB5-9517-6C4172CC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CF60C-5D87-485B-8BDC-88F934F0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7DE7E-E054-488C-8BD5-58B5BA48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BC5CC-C269-4A46-B068-B2DA6EDD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F4AE4-32A5-4289-A523-B763CE9F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1A0B0-1336-49FB-A6C4-BABAD7DA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29CB5-939C-409D-B2B8-44996687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02861-D413-4A21-B7FA-82B302AE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3A265034-3D4F-464A-81FC-2B8337A71F1C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11 - Dump and Resto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– Resuming Dump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749AF-E5A5-447A-B498-AE721D46652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– Querying Dump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ABCA0-268E-43FC-8454-FEFA85EC240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restore – Local Tap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4E9BD-9E91-4944-8ED5-4469E03D285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restore – Remote Tap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828FA-357E-4412-8D08-7E0A06E1CBA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restore – Restore from Fi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1E108-32E1-4369-881A-84C07F0BF33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restore - Interactiv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78E2C-6C69-4B3A-BCD6-9B25BCF46AC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restore – Cumulativ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F2F6E-31CE-44D6-B840-B33E04E6C54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o these still app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xfsdump/xfsrestore does not suppo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tape devices using multiple -f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IXdumpoption-z (prune large 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APIrelatedoptionsof-a and -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xfsdump/xfsrestore does, however, have the added capabilitie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restricted use of the -b option for blocksize specification and 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mping/restoring between Linux and IRIX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1094E-9E80-492C-9A8A-A55F0D2F59B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copy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CFA55-F4DF-4992-9DA9-7B23BE71967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57E72-DD38-4BED-921F-1318B2F5BF11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Dump and Restor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is section descri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differences between xfsdump, xfs_copy and other backup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to use xfsdump and xfsrestore to backup and restore an XFS file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to use xfs_copy to copy an XFS file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5AC2E-E0D3-4749-B532-FFC3B8B01FB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ump vs Copy vs Backup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dump understands all the extensions in an XFS filesystem, so all attributes will be backed up and resto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_copy 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raditional backup applications may not backup all attributes, but they provide other management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ome are still limited to 32bit 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ome are BAPI aware which means they work with DMAPI and will not back up files that are already achieved by a HSM. Otherwise they would pull files off tape to backup onto other ta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FF822-0807-4EBF-8CD5-47C74B21C9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- Featur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dump and xfsrestore support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features including 64-bit inode numbers, file lengths, and h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ular, directory, symbolic link, block and character special, FIFO, and socket file 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ain hard lin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media types (tape, fi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affect the state of the filesystem being dumped (for example, access times are retaine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restore detects and bypasses media errors and recovers rapidly after encountering th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dump does not crossmount points, local or rem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pport for automated and incremental back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495B6-8058-4727-8588-4EE01FB4BD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– Media Layou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AC1B1-2F25-4095-911D-890D7F3E69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– Local Tap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38529-4F6B-4674-963D-F794333202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– Remote Tap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60E7C-6F6B-4BF6-A6F9-A1A638A5546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– Backup to a Fi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3AB19-5D7E-4BC8-B6C6-9D2BBDBF104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– Incremental Dump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8E2A8-CF5D-43C5-84FF-8094CC246C0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6:21Z</dcterms:modified>
  <cp:revision>340</cp:revision>
  <dc:subject/>
  <dc:title>Possible CXFS Administration and Monitoring Interfaces</dc:title>
</cp:coreProperties>
</file>