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25A7-F08E-45C5-9E60-B77FF6227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lbourne.sgi.com/dmf_and_friends/internals/DMAP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0BC62-E301-4181-8CE3-A822EF01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C843-C955-480C-8B4E-BF81C398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28F1-16FE-4B5A-A661-AC7A9493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373A-F7A9-46E5-8F1A-E2D4566C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FA8B-AD49-4982-9846-DC049D2E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C33B-30D7-433D-89DF-FC4BDFCE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70189-9A58-4D3F-B934-7D737B87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A4B9-E3F7-46BA-94EE-A06255DC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8C8F2-3F8D-404D-BDD2-AA5792B3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3CF19-D41C-42CD-A10D-84F9E4B4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26493-EFD2-47EE-8DD3-B3063762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64BA3-A1BC-4365-A049-58ADA5C2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99166E6-DBAB-4FB1-869B-E465CE2C5B4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engroup.org/pubs/catalog/c429.htm" TargetMode="External"/><Relationship Id="rId2" Type="http://schemas.openxmlformats.org/officeDocument/2006/relationships/hyperlink" Target="http://www.csu.edu.au/special/auugwww96/proceedings/alex/al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DM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Filesystem Admi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be mou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unm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mount succeeded/fai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s run out of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de has been read from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78FE-3866-407A-901E-42F45DF60D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Namesp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post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file or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/post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/postr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/pos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) 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link/post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sym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8CA2-5733-45F7-B12B-0EA9740B13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r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writ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about to be truncated to the specified address (away from or towards zer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0A2E-9C17-43C7-93B3-4F8B46C556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Meta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's attribute has chan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 has been destr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reviously issued event is cancel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ilesystem object has been clo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6BD0-13D1-4C2A-9F45-87F5928318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vents - Pseud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v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sage between cooperating DMAPI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CF96-B894-4794-AF53-FA70CA9D43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s and Disposi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uses sessions as the primary communication channels between DM application and the kernel component of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MAPI calls require a session arg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 and event lists allow DM application to exercise a fine contr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event delivery and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may direct different event types to different sessions and avoid session over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s indicate which event types should be delivered to this s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M application creates a session by calling dm_open_session() and then may register event dispositions for this session by calling dm_set_dis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AF0C-ADEA-440D-A53F-4C4980B0C5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with Sess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sired events to b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eventlist_t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rigger mount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t disposition of tho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ient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1A2A-D8C0-470E-B5EB-219E07B932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disposition of events on a filesystem to a particula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turn_on_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a DMAPI attribute to return with destroy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9009-2FBB-4255-A7BE-EE55BAA48B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Managing Sessions - DMAPI function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new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estro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the specifi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1072-729F-46DB-B53E-180D71BD96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cess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next available event 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spond-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one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y FS of slow applicatio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use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user pseudo-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nd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message to indicat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move_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event to anothe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0044-CE6D-4372-A570-8D4962E798D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g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Data Management Interfaces Group consortium (DMIG), 1993-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ized access to filesystems for Hierarchical Storage Managers (HSMs) and backup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in SLES is used by vendors other than just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7A1B-C47C-411D-B3D3-D186EE40B9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/assume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outstanding tokens for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find_even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essage for a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event dispositions for all filesystems for a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F4C7-D65A-4841-B3B6-E609A59830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aged regions is the mechanism for an application to control file data access at a granularity level less than file size. It is an extent in the logical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 fl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yte-granularity events for all accesses/modifications of a file's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pply to file ob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non-overlapping byte ranges in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detect reads, writes, trun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, persistent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70CB-D580-4838-9768-5D2AE4376AD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D389-6D6A-4623-9AD7-2ED0C33A79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change mtime or atime (ctime chan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: 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generate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000E-16AE-45A8-835A-7BDA95A792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robe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rounded result of the area where a hole is to be punc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unch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hole in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ad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a file bypassing DMAPI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write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a file bypassing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ync_by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 a file's data to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file attrib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file time stamps, ownership, mode, length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alloc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allocation info for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8EC58-A686-487C-B09E-4EB3FE05E4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per file as SGI_DMI_xxx extended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across rebo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 stores in SGI_DMI_DMF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fid, fil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should be 512 bytes (-i size=5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B812-02EC-4321-BF6B-4DDAD7401F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/replac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move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ll DMAPI attributes for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A8DB-E09A-4E00-AAD3-31358D3CA0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canning Filesystems Quickl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init_attr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 bulk attribute location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bulk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bulk attributes for entire file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bulk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data management attributes for entire file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2AF0-F6A6-46B8-8916-D93674A57F3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 applications use the tokens to obtain access rights to file system objects to guarantee stability of th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session to control access/upd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atomic updates over many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may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right allows read-only access (DM_RIGHT_SH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ive right allows modification to the object (DM_RIGHT_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available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37AA-FCA0-48BD-B1C3-10FB40353F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leas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all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set of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up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current right to exclu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own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grade current right to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in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quest_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 specific access r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F44B-9F52-451F-BD1B-7DBADD5D3E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176800"/>
            <a:ext cx="259740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218000">
            <a:off x="1668240" y="3478320"/>
            <a:ext cx="5265720" cy="1681200"/>
          </a:xfrm>
          <a:prstGeom prst="leftRightArrow">
            <a:avLst>
              <a:gd name="adj1" fmla="val 50000"/>
              <a:gd name="adj2" fmla="val 62352"/>
            </a:avLst>
          </a:prstGeom>
          <a:solidFill>
            <a:srgbClr val="c0b9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63480" y="2435400"/>
            <a:ext cx="839880" cy="184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581280" y="3317760"/>
            <a:ext cx="762120" cy="181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600" y="1219320"/>
            <a:ext cx="281664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Primary Storage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Online high-performance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2 to 1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urrent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32280"/>
            <a:ext cx="1954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30 day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81480"/>
            <a:ext cx="1752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12 month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351320"/>
            <a:ext cx="23637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32960" y="2805120"/>
            <a:ext cx="23619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8040" y="302112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3720" y="354636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84920" y="1371600"/>
            <a:ext cx="245700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Nearline Disk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High Capacity, Low cost, 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Lower performance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6 to 2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is years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00200" y="2895480"/>
            <a:ext cx="199368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Tape Library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Archive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hundreds to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ousands of hour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7515000" y="4641840"/>
            <a:ext cx="881280" cy="51912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934320" y="4003560"/>
            <a:ext cx="839520" cy="181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38360" y="2971800"/>
            <a:ext cx="5295960" cy="990720"/>
          </a:xfrm>
          <a:custGeom>
            <a:avLst/>
            <a:gdLst/>
            <a:ahLst/>
            <a:rect l="l" t="t" r="r" b="b"/>
            <a:pathLst>
              <a:path w="3240" h="576">
                <a:moveTo>
                  <a:pt x="3240" y="576"/>
                </a:moveTo>
                <a:lnTo>
                  <a:pt x="1880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2E5A-18F7-4E29-9DDB-F9B53478B2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MAPI 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tions must be us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able the DMAPI event call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dsm and dmi options are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tpt=mount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mountpoint specified here will be included in the DMAPI mount event, and should be the path of the actual mountpoint that is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rep dmapi /etc/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/mnt/scratch1 xfs dmapi,mtpt=/mnt/scratch1,defaults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on /mnt/scratch1 type xfs (rw,dmapi,mtpt=/mnt/scratch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F15B-FC3A-41B2-A3D3-FC2C993B27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if there is no DMAPI module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unt -o logdev=/dev/sdb,dmapi,mtpt=/mnt/data /dev/sdd /mnt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unt: wrong fs type, bad option, bad superblock on /dev/sd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sing codepage or other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some cases useful info is found in syslog -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esg | tail  or 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mesg | tail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: unknown mount option [dmapi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eck that DMAPI is probed on boot and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ES10 set DMAPI_PROBE to yes in /etc/sysconfig/sys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out rebooting XFS with load dmapi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echo 1 &gt; /proc/sys/fs/xfs/probe_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lsmod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mapi              22936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api                  39728  1 xfs_dmapi,[permane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                   479796  4 xfs_dmapi,xfs_qu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A8B7-9F19-4DDD-A0FD-862B6D7176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DMAPI interfaces used by SGI’s HSM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of the bugs recently fixed in DMAPI did not impact SGI’s H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me DMAPI interfaces are not implemented by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taining 2.4/2.6 compatible code makes it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an is to remove 2.4 support from this code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requires two kernel changes that are not in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en_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C642-CFCB-411C-B8AF-01131A927FE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Libra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.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HANGES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READ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24C5-ABDD-4897-98E3-1786401F6F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Development Pack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devel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include/xfs/dmapi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man/man3/dmapi.3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F2C1-A21C-4716-9D66-540423E833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Kernel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rpm -qpl kernel-default-2.6.16.21-0.8.ia64.rpm | grep 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/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lesystem in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/xfs_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1525-E7D5-4756-BD83-A47643D7EB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Tri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6EBB-732A-495E-A36A-97C2A9D71C9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7B0D-C040-4989-89FE-9802F9D38BC5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conomic Benefi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4200" y="5452920"/>
            <a:ext cx="5459400" cy="36684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9920" y="4790520"/>
            <a:ext cx="124776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2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966080" y="3421080"/>
            <a:ext cx="44460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27840" y="3487680"/>
            <a:ext cx="1038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6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3852720"/>
            <a:ext cx="6122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System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c/MB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/o DMF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DMF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4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8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8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37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br>
              <a:rPr sz="1800"/>
            </a:b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DMF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tal Investment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3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640"/>
            <a:ext cx="4641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Example Environment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2TB data less than 30 days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6TB data between 30 days and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30TB data over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040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6200" y="1464120"/>
            <a:ext cx="1751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out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3800" y="1464120"/>
            <a:ext cx="1524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676840" y="191448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904160" y="193680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001000" y="4664160"/>
            <a:ext cx="452520" cy="97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23FE-66C4-40AC-BEB2-207DF52B6F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do HSMs need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accesses/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pt or reject such accesses and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user processes block until the change has been ap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ss a file without knowing a path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read and change the contents of a file without bl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HSM-specific information persistently with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n all files in a filesystem quick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when filesystems become 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0EE7-BD69-4B23-B61B-761AF25EDA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Standard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Versions 2.1 and 2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Open Data Storage Management API (XDSM) - 2/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rigorous stand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70 function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40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available free in HTML format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opengroup.org/pubs/catalog/c429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Miroshnichenko’s paper from AUUG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u.edu.au/special/auugwww96/proceedings/alex/al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D2E8-EE84-4F18-AFA1-AF457A5E7C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ile access without path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milar to NFS file han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ndle is an opaque persistent identifier which is unique pe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change for the life of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are represented as variable length byte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* and size_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istence of a valid handle does not guarantee existence of the object referenced b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way to guarantee the existence of the object referred to by a handle is to either obtain a right or hold on the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andle 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handle - (used only in mount reque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ndle - (fsid has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handle - (fsid hash/fid_t structu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22AB4-B1E2-4A3E-B459-D9E53AA171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path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fd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system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the filesystem handle from a file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handle comparis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is_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if a handle is val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h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h contents of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storage allocated to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 pathname from two hand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6127-FEB8-4CF1-A51C-A02A9C4F33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Events and Toke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are messages from the kernel to a DMAPI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otification of accesses/changes to a file or file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ynchronous event is generated, the user process is suspended in the kernel until a DMAPI application issues an explicit response to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oken is a reference to the kernel state associated with a synchronou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events are for notification purpo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a completion (or failure) of certa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not block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ain handles, directory na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6B55-58CD-4663-9448-AA3921574C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58Z</dcterms:modified>
  <cp:revision>335</cp:revision>
  <dc:subject/>
  <dc:title>Possible CXFS Administration and Monitoring Interfaces</dc:title>
</cp:coreProperties>
</file>