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1511A-F821-4673-9C28-47C2C035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47F4C-7751-4D5B-B3FA-A5DCF0D3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9B87E-74D5-41B0-B5AD-8002EAD9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9312D-84E0-445C-8D6B-0D0DCB7B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B9801-A9E7-44F6-B47D-2868CD81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5CCD0-1F5C-407C-8FD1-B498C119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4ED4C-99CD-4EDB-8693-DC0B6AEE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A56FE-ED47-4630-822E-47FA071F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588B6-289A-4CC5-A5FE-8A175A72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FDD7E-516B-4368-92F9-218D7944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77E78-20C9-4447-B5AC-84E457BD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26926-474B-4957-8DA1-794DB776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955BA4A1-5BB5-4744-BD69-C621FC6CD9D5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7 – Extended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Extended Attribut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ended Attributes (EA) are a set of &lt;name,value&gt; pairs associated with an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o uses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ss Control Lists (AC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agle ind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me is a null terminated string &lt;= 255 ch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ue is binary data &lt;= 64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8B823-C2DE-4AD3-9EB2-037C37B0AB2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Namespac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EA set is typically divided into namesp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Linux the namespace is the prefix of the EA na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u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XFS, the namespace is encoded in bits in a flags field with these val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er” has value of 0x0000 – by default an attribute is in the user name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define ATTR_ROOT       0x0002  /* use attrs in root (trusted) namespa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define ATTR_SECURE     0x0008  /* use attrs in security namespa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define ATTR_SYSTEM     0x0100  /* use attrs in system (pseudo) namespa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 for XFS, EAs are really a triple &lt;name, value, flag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79EEC-85DF-4720-8B57-19FE89990D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Command Line Interfac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r package maintained by Andreas Gruenbacher and S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tfattr(1) for getting/listing 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tfattr(1) for setting and removing EA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mes are prefixed with the name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r command sets/removes/gets/lists 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sed on IRIX command, provides common interface for XFS 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mespace specified with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re closely models what XFS actually stores since names are the actual n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getfattr -e hex -dm '.*' fil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posix_acl_access=0x0200000001000600ffffffff040006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rusted.SGI_ACL_FILE=0x0000000400000001ffffffff0006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attr -Rl fil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ttribute "SGI_ACL_FILE" has a 52 byte value for file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E7558-1089-4E0C-A0E5-D05B33B91F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Ondisk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ame can actually be binary data since it has a length field 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FS kernel functions have been changed to handle binary names (used for future parent pointer EA'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FS EA's are stored in a variety of forms according to how big they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al or short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thin the i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tribute-fork extents in ei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filesystem leaf 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tree form with node blocks and leaf bl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tent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EA value can be in a remote filesystem block if it's la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88316-67A3-4D6C-A5F6-3B36C2EC3D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Tun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using ACLs, every file access will require an EA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performance, it is important to keep the EA's within the inode in shor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ly a single filesystem block needs to be read 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Ls are a good example where the access checks occur frequ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increase the chance of being in shor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 the inode size, and/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able att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kfs.xfs –i size=512,attr=2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hort-form EA resides at the end of the inode and competes for space with the data ext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AFD1D-A513-4845-B377-ED0A62291F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and Attr2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r2 overcomes a restriction in the initial EA implementation that divided up the literal area at a fixed location (fork off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attr2 the fork offset i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476360" y="3284640"/>
            <a:ext cx="5827680" cy="1827000"/>
            <a:chOff x="1476360" y="3284640"/>
            <a:chExt cx="5827680" cy="1827000"/>
          </a:xfrm>
        </p:grpSpPr>
        <p:sp>
          <p:nvSpPr>
            <p:cNvPr id="105" name=""/>
            <p:cNvSpPr/>
            <p:nvPr/>
          </p:nvSpPr>
          <p:spPr>
            <a:xfrm>
              <a:off x="1476360" y="3284640"/>
              <a:ext cx="5827680" cy="1827000"/>
            </a:xfrm>
            <a:prstGeom prst="roundRect">
              <a:avLst>
                <a:gd name="adj" fmla="val 8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33200" y="3625560"/>
              <a:ext cx="125676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21430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core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31400" y="4538880"/>
              <a:ext cx="125712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21430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core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89960" y="3625560"/>
              <a:ext cx="182808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21430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u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18400" y="3625560"/>
              <a:ext cx="182808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21430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a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89960" y="3739320"/>
              <a:ext cx="914040" cy="342720"/>
            </a:xfrm>
            <a:prstGeom prst="rightArrow">
              <a:avLst>
                <a:gd name="adj1" fmla="val 50000"/>
                <a:gd name="adj2" fmla="val 66675"/>
              </a:avLst>
            </a:prstGeom>
            <a:solidFill>
              <a:srgbClr val="ded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18400" y="3739320"/>
              <a:ext cx="914040" cy="342720"/>
            </a:xfrm>
            <a:prstGeom prst="rightArrow">
              <a:avLst>
                <a:gd name="adj1" fmla="val 50000"/>
                <a:gd name="adj2" fmla="val 66675"/>
              </a:avLst>
            </a:prstGeom>
            <a:solidFill>
              <a:srgbClr val="ded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89960" y="4538880"/>
              <a:ext cx="365652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193824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u</a:t>
              </a: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	</a:t>
              </a: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a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89960" y="4653000"/>
              <a:ext cx="914040" cy="342720"/>
            </a:xfrm>
            <a:prstGeom prst="rightArrow">
              <a:avLst>
                <a:gd name="adj1" fmla="val 50000"/>
                <a:gd name="adj2" fmla="val 66675"/>
              </a:avLst>
            </a:prstGeom>
            <a:solidFill>
              <a:srgbClr val="ded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32440" y="4653000"/>
              <a:ext cx="914040" cy="342720"/>
            </a:xfrm>
            <a:prstGeom prst="leftArrow">
              <a:avLst>
                <a:gd name="adj1" fmla="val 50000"/>
                <a:gd name="adj2" fmla="val 66675"/>
              </a:avLst>
            </a:prstGeom>
            <a:solidFill>
              <a:srgbClr val="ded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3200" y="3396960"/>
              <a:ext cx="11426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5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"attr1" growth:</a:t>
              </a:r>
              <a:endParaRPr b="0" lang="en-US" sz="10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33200" y="4310640"/>
              <a:ext cx="11426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5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"attr2" growth:</a:t>
              </a:r>
              <a:endParaRPr b="0" lang="en-US" sz="10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4432680" y="3335040"/>
              <a:ext cx="1256760" cy="226800"/>
              <a:chOff x="4432680" y="3335040"/>
              <a:chExt cx="1256760" cy="226800"/>
            </a:xfrm>
          </p:grpSpPr>
          <p:sp>
            <p:nvSpPr>
              <p:cNvPr id="118" name=""/>
              <p:cNvSpPr/>
              <p:nvPr/>
            </p:nvSpPr>
            <p:spPr>
              <a:xfrm>
                <a:off x="4432680" y="3335040"/>
                <a:ext cx="1254960" cy="226800"/>
              </a:xfrm>
              <a:prstGeom prst="wedgeRectCallout">
                <a:avLst>
                  <a:gd name="adj1" fmla="val -3611"/>
                  <a:gd name="adj2" fmla="val 127777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63636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432680" y="3335040"/>
                <a:ext cx="125676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spcAft>
                    <a:spcPts val="99"/>
                  </a:spcAft>
                  <a:tabLst>
                    <a:tab algn="l" pos="0"/>
                    <a:tab algn="r" pos="21430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Fixed di_forkoff</a:t>
                </a:r>
                <a:endParaRPr b="0" lang="en-US" sz="800" spc="-1" strike="noStrike">
                  <a:solidFill>
                    <a:srgbClr val="363636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3075840" y="3625560"/>
              <a:ext cx="1080" cy="57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75840" y="4538880"/>
              <a:ext cx="1080" cy="57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32440" y="4538880"/>
              <a:ext cx="1440" cy="570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366160" y="4258080"/>
              <a:ext cx="1256760" cy="226440"/>
              <a:chOff x="5366160" y="4258080"/>
              <a:chExt cx="1256760" cy="226440"/>
            </a:xfrm>
          </p:grpSpPr>
          <p:sp>
            <p:nvSpPr>
              <p:cNvPr id="124" name=""/>
              <p:cNvSpPr/>
              <p:nvPr/>
            </p:nvSpPr>
            <p:spPr>
              <a:xfrm>
                <a:off x="5366160" y="4259520"/>
                <a:ext cx="1256760" cy="225000"/>
              </a:xfrm>
              <a:prstGeom prst="wedgeRectCallout">
                <a:avLst>
                  <a:gd name="adj1" fmla="val -5657"/>
                  <a:gd name="adj2" fmla="val 183888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63636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66160" y="4258080"/>
                <a:ext cx="1256760" cy="22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spcAft>
                    <a:spcPts val="99"/>
                  </a:spcAft>
                  <a:tabLst>
                    <a:tab algn="l" pos="0"/>
                    <a:tab algn="r" pos="21430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oving di_forkoff</a:t>
                </a:r>
                <a:endParaRPr b="0" lang="en-US" sz="800" spc="-1" strike="noStrike">
                  <a:solidFill>
                    <a:srgbClr val="36363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1250D-1971-448F-A423-F12BA9B3FF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and Backup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pio and tar do not backup and restore extended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 using extended attributes, an EA backup tool like xfsdump and xfsrestore must b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437A6-E0C7-4A9B-BA6B-2D0A9511B14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1F897-303F-4D6B-ABA2-FD1EACCB8826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59:40Z</dcterms:modified>
  <cp:revision>333</cp:revision>
  <dc:subject/>
  <dc:title>Possible CXFS Administration and Monitoring Interfaces</dc:title>
</cp:coreProperties>
</file>