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B81E-445E-467E-A473-B900382A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F964-E8F0-49DF-A8B3-C5F46D1B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B4E8-2F02-4A7B-B320-7BD98A21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067A-CBA3-4CA4-9402-A800099F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F882-6C87-41B1-8297-92F53A34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F330-6994-4FDD-B38A-5D962DB3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DC980-EDDA-4946-8399-30A9F55C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65FB-259F-44E0-BBC8-EFFB0F28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80D7D-7C2A-4631-8BAD-B4016CE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411B-BD4F-4682-B8EC-69775036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9DDC-BB86-4120-8BA8-53292F96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FF9B-CD81-43CE-B8D9-49B20FFD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48E35A0-F59A-452A-9BD6-3A4E54747709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9 - Inter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fs_fill_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 a bhv_vfs struc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fs_alloc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initial behaviour module chain, for all bhv_module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insert_all_vfs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 mount option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parsear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end of this we have the final behaviour chain – e.g. if quota is not in use, its removed itself from the cha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bhv_remove_vfs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moun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m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ase XFS behaviour, we read the primary superblock, setup per-fs structures, does log recovery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quota behaviour, we do the quotacheck and dquot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B548C-F067-4750-B1D4-CA12498B5E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-T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440" y="1476360"/>
            <a:ext cx="914688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8245-78AF-44B7-BF72-A595FD62FBB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nd Directory Oper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476E-B67C-4EB3-AA6C-2F151A05E9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name Loo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FB77-1283-4A79-B16F-DC3EFE857F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reating a new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9445-DF3F-458B-856D-6495393DAE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ng a new in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51E6E-141E-4367-8AFE-E8A96D9659B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dding name to directo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8AD3-454E-4AA8-BC08-9A6CEF5D33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hanging file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0472-FA02-43E6-B0A2-52CBB8E4AB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riting to a new file / Appending to an existing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8D10-96B7-45E8-AC4A-D8EB00633B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ing from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B71A-E2C2-4547-98C4-5C19864A26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Archite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4720-3C43-4384-B377-549A04CDF5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ek and write to create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95BB-623C-4126-8B0D-AB007A4D822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 and write to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AAB8-3CDD-4F23-BEE4-E146C7C9628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uncate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1208-0548-4D33-AFC1-47211BACE8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pace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i / xfs_bmap_alloc  (the root of all evi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MAP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extent map f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ctual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unwritten extents to written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pace al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+Trees (“dat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b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itmaps (“realtim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r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stripe unit/width size/align, di_ext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E9BDA-FFB5-4260-A15D-1767366EF7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mory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been a source of problems on the Linux XFS port, it is much improved now, how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 was very good at ensuring memory allocations succeeded, XFS written on IRIX... you do the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rocess flag added into Linux XFS zone (slab) allocation routines that make the allocator aware of memory allocations from within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4ED5-0309-4A60-A3FA-99839C0F86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Buffe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uf.c and xfs_buf.h implements the XFS metadata buffer cache o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ag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“pinn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“private” buffer poi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ing, iodone semaphore for I/O wai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backs for: iodone, relse, pre-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core log buffers also implemented via xfs_buf_t and this causes some oddities in there – sub-buffer-sized I/Os, non-page-cache buff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address_space from b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386D-CAF0-4235-AD7C-AC6186B063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I/O Comple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logd/N (per-CPU dae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s that handle I/O completion work for iclog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log_state_do_callbacks – runs multiple completions, depends on what was logged inside this iclog 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lso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buf_do_callbacks – typically, removing from AIL and freeing up buffer_item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atad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cover later, in the I/O path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sort of idea th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E584-89E1-4632-B0BB-7FCBF777922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ayed write buff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bu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thread, one per filesystem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buftarg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“buffer target”) hash table finding delayed writ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s timestamped when que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weak the age at which unpinned and dirty metadata buffers will be considered for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age_buffer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able daemon wakeup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xfsbufd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383D-2935-4BF4-93CB-78EAA15601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/O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nd write family of sys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buffered and direct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lrw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locking (i_mutex/iolock/i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write reserves space only, allocation at writeou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block_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ode, iblock, buffer_head, “create” fl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buffer_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_state, b_blocknr, b_size,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107D-78B9-41E2-BA6A-D6A0E03120F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sync(2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implements an optimisation to sync(2) of meta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will only force the log out, such that any dirty metadata that is incore is written to the lo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metadata itself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cessarily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safe, since all change is o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data is guaranteed too (even barri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ze/thaw, remount,ro and unmount do guarantee both log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been bitten in the past, but fixed 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9700-AE53-4EB1-91C0-08F852DF3A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vnodeo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FS system call interfaces are mapped to xfs functions in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vnode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vnodeops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_vnodeop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pen, close, fid, read, write, sendfile, splice, f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getattr, set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attributes -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ttr_get, attr_set, attr_list, attr_re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ccess, loo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permissions/ex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, remove, symlink, read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ular files, specia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ddir, mkdir, rmdir, rmdir, link, re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claim, release, inactive, iflush, bmap, flush_pages, flush_inval_pages, toss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/ page cache state and/o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BE209-7B48-4B30-9C67-0E6D42A572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ata write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by the VM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vm_writepag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page_state_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cache pages attached to inodes via a radix-tree (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-&gt;i_mapping and page-&gt;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oes its own writeout, sort of (due to delayed allocation and unwritten ext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through 2.6 writepa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use buffer_heads for per-fsbno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ioend_t - goes direct-to-bio for actual write, with &gt;1 page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FC67-9940-4447-91E5-EA348504A0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nsa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= xfs_trans_alloc(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reserve(tp, data, log, rt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make changes, allocate space, free spa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superblock/inode(s)/buffers/... to transaction, logging ranges within these objects, typically, e.g.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trans_log_inode(tp, ip, XFS_ILOG_CO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commit(t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2299-D0B3-41EF-873A-47D67A620A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35920" cy="53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9B69-7F43-4B6B-8114-8941176A6544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3FF6-EF85-4CF9-BD74-59548273370C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vnode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ECEE-EFA9-4916-AEE8-3CDBED8488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specific system calls (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ctl()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) are dispatched by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ioct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fs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linux-2.6/xfs_ioctl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, fscounts, [get|set]resblks, shutdown, freeze/th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level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[fs|fslog|fs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size (and maximum inode count)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et|set]xflags, fs[get|set]xattr, fs[get|set]xattra, dio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attribu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I/O parameters (min/max/al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sp, freesp, resvsp, unresv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llocation and/or pre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(sequential) inode's attributes –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dump, quotacheck,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-handle (open, fd-to-, path-to-, readlink, attrlist, attrmulti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inodes by “handles” (inum/igen/f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bmap, getbmapa, swap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data/attr fork exten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79C6-C435-41C2-BFAB-066396943F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xfsc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E3927-E2DE-445F-81C5-002EC5D73F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y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usr/src/linux/Documentation/fs/xf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ymlink_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links get mode 0777 by 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gid_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gid bit always inherited regardless of process g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mli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t inherit symbol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_cho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wn restricted to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orst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files in AG before rotating to nex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quo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i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dm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el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_buffer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of buffered data before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sync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sync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buf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buf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a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 accesstime trackin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du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dump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sync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_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error handling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_m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panic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27E7-DCBC-428D-BE93-BD4E832992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ntry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unused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laim &gt;secs when short o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Calling shrink_dcache_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max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imum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file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s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ctive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ree inod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# &gt; inode-max so prune in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me as inode-state first two v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D0D0-3933-47C4-824E-24103DE93C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ehaviou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27080" y="1905120"/>
            <a:ext cx="7096320" cy="34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CB056-195D-4B14-833E-17517ADD08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2:32Z</dcterms:modified>
  <cp:revision>338</cp:revision>
  <dc:subject/>
  <dc:title>Possible CXFS Administration and Monitoring Interfaces</dc:title>
</cp:coreProperties>
</file>