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E6AE1-FE81-454C-A581-6DEBAA8E4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0426D-9774-46A7-B9D2-E96A1C1E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F7A2A-EED7-4F5C-8F28-81435406F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505D6-6B51-43CD-ACD7-1B4B5F4E9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0126B-F5B4-49A5-BDD3-DD8E17271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838F1-7328-42EC-AF8B-BE75F43B9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A2A87-939B-43F3-8D32-FB178B003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FAEC0-22C2-4F81-929C-FFB212243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18B82-9CBB-4F7A-BA5A-B1CB8CB6F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26D38-3615-4DEA-B85D-3F725188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F3B14-1B7E-40A0-A599-24D05A1F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93509-036C-4AE5-9210-0270109E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4611188B-3FEC-42AE-B819-FEEAD10DADC9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16 - Volume Manag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16 - Volume Manag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 and Volume Manager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Using XFS with md, device mapper, software ra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6 - Volume Manag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083C9-48BC-4CCC-AFE3-2D6861A9F7D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6 - Volume Manager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96E2F-422F-4AC5-AADF-A4AF85E6D9EF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21:57:40Z</dcterms:modified>
  <cp:revision>331</cp:revision>
  <dc:subject/>
  <dc:title>Possible CXFS Administration and Monitoring Interfaces</dc:title>
</cp:coreProperties>
</file>