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13A7E-0F0B-4575-B4F9-BA24E1AF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91B25-E632-418A-A80C-4EC7C439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4494-C022-4BAA-A620-2042D371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0D1C-6F45-4999-9C66-F8E013FE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6DDB7-5B49-4416-A087-836FE8CC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5A675-70F7-49AB-B275-7D3FA889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F769-E0C2-42FC-A691-28F994FA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F12E2-B39D-4B32-9918-10CEF5BD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C27EA-3A09-404D-8138-3E218D84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2098F-CCA3-4E1C-802D-2DBBA1BA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DD74-1B4B-4AA7-B958-0FFBC498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A49F4-0C10-4F36-A8B9-4657DDD7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2D05B623-59F1-41A4-BD33-CA5D787721E1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2 - Tri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Q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1B2D-82C7-4425-BDFC-E27AEC1A86D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Kerne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ktrace, strace, l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d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kernel debug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B, PAGE_ALLOC, SPINLOCKS, MUT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ebug (assert, runtime che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tracing option (event his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error injection option (xfs_io “inject”, fsst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646CD-D895-4343-9490-32A4CE4350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Large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ways lack hardware to test the high end of filesystem size, inode cou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large sparse files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 to allocation group size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fs -dfile,name=/tmp/x,size=1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-o loop /tmp/x /mnt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tests/tools/ag-w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xfs_db to mark some AG's as “full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in QA (check/repair iss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repair undergoing surg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done all we can with thi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25B6-BEED-4709-B591-8C83849261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F930B-CC5E-46CC-B415-619CA04B576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4:57Z</dcterms:modified>
  <cp:revision>338</cp:revision>
  <dc:subject/>
  <dc:title>Possible CXFS Administration and Monitoring Interfaces</dc:title>
</cp:coreProperties>
</file>