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B989-214A-4BBB-89FF-C6F33899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2CD6-8CE1-48D4-B859-8EE03185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509D-F103-46BD-A07D-7B3450CF0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6E96-0726-4C77-99A2-95112B320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6F3E-9E8F-4847-8DB9-96BD82A3F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7077-2E8B-4971-94E8-29DA8810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B590-DF08-4DE1-BFC0-F2227542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8682-7A84-4BF1-9115-72058064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ED5C-65D2-4423-9500-76C2242D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2FCF-E5DB-4455-B703-BA55C0B4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EBAD-6747-4CDF-B64D-C88BA380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44F6-D928-4C12-8618-9D9FA819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E160-1F4D-4048-972E-FA69CA3D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E9BD-5421-49C1-8A44-37173757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56D1-31C5-4AF4-8E0C-535B2C65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14E9-1099-434D-A7B1-FC270172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040C-53F4-41A7-BA9A-7C9492EDC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6383-C643-407B-9DC1-7F813F63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853B-EA98-440E-84AD-616B41AD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ABAC-9614-463D-BED0-02D88128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3BA2-0F1E-4F09-9402-385A8D81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699B-1BCB-49A9-ACDD-02F50DA1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BDA7-4549-45FD-9699-13A072AF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575D-6CD1-416C-A6B0-4A0723BA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E6B4-2E55-43DC-BC7E-B1CBD8E7AB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7602-54ED-4A5C-A378-9197168F35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676520" y="304920"/>
            <a:ext cx="64008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3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60093"/>
                </a:solidFill>
                <a:latin typeface="Times New Roman"/>
              </a:rPr>
              <a:t>L V M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Logical Volume Manager for Linu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inz Mauelshag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linux.LVM@ez-darmstadt.telekom.d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/02/1999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 and 1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600200" y="2666880"/>
            <a:ext cx="5943600" cy="2743200"/>
            <a:chOff x="1600200" y="2666880"/>
            <a:chExt cx="5943600" cy="2743200"/>
          </a:xfrm>
        </p:grpSpPr>
        <p:sp>
          <p:nvSpPr>
            <p:cNvPr id="154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57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1828800" y="3657600"/>
            <a:ext cx="5486400" cy="1676520"/>
            <a:chOff x="1828800" y="3657600"/>
            <a:chExt cx="5486400" cy="1676520"/>
          </a:xfrm>
        </p:grpSpPr>
        <p:sp>
          <p:nvSpPr>
            <p:cNvPr id="161" name=""/>
            <p:cNvSpPr/>
            <p:nvPr/>
          </p:nvSpPr>
          <p:spPr>
            <a:xfrm>
              <a:off x="1828800" y="4724280"/>
              <a:ext cx="5486400" cy="609840"/>
            </a:xfrm>
            <a:prstGeom prst="ellipse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28800" y="4035600"/>
              <a:ext cx="5486400" cy="993600"/>
            </a:xfrm>
            <a:prstGeom prst="rect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28800" y="3657600"/>
              <a:ext cx="5486400" cy="685800"/>
            </a:xfrm>
            <a:prstGeom prst="ellipse">
              <a:avLst/>
            </a:prstGeom>
            <a:gradFill rotWithShape="0">
              <a:gsLst>
                <a:gs pos="0">
                  <a:srgbClr val="ad4cff"/>
                </a:gs>
                <a:gs pos="100000">
                  <a:srgbClr val="7834b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218480" y="5456160"/>
            <a:ext cx="727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6600" y="5106960"/>
            <a:ext cx="531720" cy="608040"/>
          </a:xfrm>
          <a:prstGeom prst="line">
            <a:avLst/>
          </a:prstGeom>
          <a:ln w="25560">
            <a:solidFill>
              <a:srgbClr val="ad4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75400" y="2986200"/>
            <a:ext cx="1413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568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14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PV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change - change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pvcreate   - initializes VGDA on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ata      - displays VGDA (debugg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isplay - show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move    - moves PEs/LEs between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scan      - searches for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backu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oes a VGDA back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resto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tores VGDA to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hang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hange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eck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s a new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VG „un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te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a 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im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a VG „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er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erge two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kno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reate device spec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du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duce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empty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scan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search for VG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spl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plit a VG into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2fsad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or reduce LVs with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cluded ext2 Dateisyste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(resize2fs nee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ange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 a new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extend          - extend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duce          - reduce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M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et LVM in case of a tes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emerg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disk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disks, dis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partitions or multipl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de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d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ollect LV read/writ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port of collected LV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statistic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4920" bIns="30492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9 VGs m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56 LVs total (8 bit minor #) in all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PEs to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LEs per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/LE sizes between several KB 8*) and G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1000 TB but limited by int variables in the Linux I/O subsystem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800 hours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34000 LOC (Lines Of Code) including all sources, comments, manual pages, scripts, makefiles, READMEs,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29000 LOC 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ul/driver with 3200 L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2 library functions in 127 source mod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5 com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Goal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flexible I/O-system extension for Linux to gain a virtual view on mass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le scaling of mass storage capacities in wide r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sion and reduction of storage without system interru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ease it GNU licen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6360" y="2025720"/>
            <a:ext cx="8262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1905120"/>
            <a:ext cx="78487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 VG “test” with 2 PVs (/dev/sd[kl]1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1 LV “tlv” containing an EXT2F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k       #  set partition type identifier to0xF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l       #                  “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create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k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l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create test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using default physical extent size of 4 MB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maximum logical volume size is 256 Gigaby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volume group “test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stored on /dev/sd[kl]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 special file /dev/test/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backup stored in /etc/lvmconf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name added to /etc/lvmtab and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is loaded into the driver so that VG “test” can be acce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continued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5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lvcreate -L 300 -n tlv test #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logical volume “/dev/test/tlv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ke2fs 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ke2fs 1.10, 24-Apr-97 for EXT2 FS 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Writing superblocks and filesystem accounting information: d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ount /dev/test/tlv /usr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ffffff"/>
                </a:solidFill>
                <a:latin typeface="Courier New"/>
              </a:rPr>
              <a:t>. . .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ck special file /dev/test/tlv mapping a size of 300 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etc/lvmtab.d/test.conf renamed to /etc/lvmtab.d/test.conf.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backup  of VGDA stored in  /etc/lvmtab.d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d VGDA loaded into the driver to be able to access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unted EXT2 filesystem in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8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08 / 5.891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erbo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Logical volume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ope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rent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ed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io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 fr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lock devic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8: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</a:rPr>
              <a:t>to be continued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9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e the LEs of LV /dev/test/tlv away from PV /dev/sdk1 to PV /dev/sd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move -f /dev/sdk1    # /dev/sdl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moving physical extents in active volume group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75 extents of physical volume successfully mo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107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43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age of physical disks, disk partitions or multiple devices as  PVs (Physical Volumes; basic allocation devic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ther PVs in VGs (Volume Groups; virtual disk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cation of VG storage to LVs (Logical Volumes; virtual partitions) in basic units called PEs (Physical Exte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1905120"/>
            <a:ext cx="755496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 VG “test” by the free PV /dev/sdk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reduce test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“test” successfully reduc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34 / 1.7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The Future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ation of RAID1/5/10/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ot-filesystem in a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 driver into Linux 2.3 ker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ociate UUIDs (Uniform Unique Identifiers) to VGs and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VGDA by additional attributes like LV creation time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Who and Where?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M software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linux.msede.com/lv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Mail-list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msede.com (majordom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Author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ez-darmstadt.telekom.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07880" y="1905120"/>
            <a:ext cx="670716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cccc"/>
                </a:solidFill>
                <a:latin typeface="Times New Roman"/>
              </a:rPr>
              <a:t>Thank you :-)</a:t>
            </a:r>
            <a:endParaRPr b="0" i="1" lang="en-US" sz="8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address space of the LVs in units of LEs (Logical Extents; kind of block) to the PEs on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and reduce VGs and LVs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LVs like disks, disk partitions or multiple devices for filesystems, databases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ess VGs and LVs via device special files named /dev/VolumeGroupName/*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e configuration information (VGDA or Volume Group Descriptor Area) on each PV of a VG and for performance reasons in a working copy on file in /etc/lvmtab.d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GDA holds all the attributes of the PV, VG, LVs and the allocation of the 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LEs (Logical Extents) of LVs to the PEs of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ld the attributes and the mapping tables in a LVM driver (loadable as a module to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calls to the mapping function of the driver in “/usr/src/linux/drivers/block/ll_rw_blk.c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command and a library layer to ease the integration of different or additional tools or graphical user inte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and import VGs to bring them to or get them from different computer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linear and striped (RAID0)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786200" y="2819520"/>
            <a:ext cx="2438280" cy="2361960"/>
            <a:chOff x="4786200" y="2819520"/>
            <a:chExt cx="2438280" cy="2361960"/>
          </a:xfrm>
        </p:grpSpPr>
        <p:sp>
          <p:nvSpPr>
            <p:cNvPr id="127" name=""/>
            <p:cNvSpPr/>
            <p:nvPr/>
          </p:nvSpPr>
          <p:spPr>
            <a:xfrm>
              <a:off x="4786200" y="46483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86200" y="3124080"/>
              <a:ext cx="2438280" cy="182880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6200" y="28195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133720" y="2819520"/>
            <a:ext cx="2438280" cy="2377440"/>
            <a:chOff x="2133720" y="2819520"/>
            <a:chExt cx="2438280" cy="2377440"/>
          </a:xfrm>
        </p:grpSpPr>
        <p:sp>
          <p:nvSpPr>
            <p:cNvPr id="131" name=""/>
            <p:cNvSpPr/>
            <p:nvPr/>
          </p:nvSpPr>
          <p:spPr>
            <a:xfrm>
              <a:off x="2133720" y="466056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33720" y="3125880"/>
              <a:ext cx="2438280" cy="184104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33720" y="281952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30440" y="5335560"/>
            <a:ext cx="2284200" cy="700560"/>
            <a:chOff x="3430440" y="5335560"/>
            <a:chExt cx="2284200" cy="700560"/>
          </a:xfrm>
        </p:grpSpPr>
        <p:sp>
          <p:nvSpPr>
            <p:cNvPr id="135" name=""/>
            <p:cNvSpPr/>
            <p:nvPr/>
          </p:nvSpPr>
          <p:spPr>
            <a:xfrm>
              <a:off x="3996000" y="5456160"/>
              <a:ext cx="1169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2 PV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10660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3044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00200" y="2666880"/>
            <a:ext cx="5943600" cy="3369240"/>
            <a:chOff x="1600200" y="2666880"/>
            <a:chExt cx="5943600" cy="3369240"/>
          </a:xfrm>
        </p:grpSpPr>
        <p:sp>
          <p:nvSpPr>
            <p:cNvPr id="141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44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4195080" y="5456160"/>
              <a:ext cx="773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V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6760" y="5106960"/>
              <a:ext cx="531720" cy="608040"/>
            </a:xfrm>
            <a:prstGeom prst="line">
              <a:avLst/>
            </a:prstGeom>
            <a:ln w="255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568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714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9:48Z</dcterms:created>
  <dc:creator>telekom</dc:creator>
  <dc:description/>
  <dc:language>en-US</dc:language>
  <cp:lastModifiedBy>Heinz Mauelshagen</cp:lastModifiedBy>
  <cp:lastPrinted>1998-05-28T18:02:56Z</cp:lastPrinted>
  <dcterms:modified xsi:type="dcterms:W3CDTF">1999-02-21T19:15:18Z</dcterms:modified>
  <cp:revision>293</cp:revision>
  <dc:subject/>
  <dc:title>Vorstellung einer Neuhei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linux.msede.com/lvm</vt:lpwstr>
  </property>
  <property fmtid="{D5CDD505-2E9C-101B-9397-08002B2CF9AE}" pid="9" name="LinkColor">
    <vt:r8>16711782</vt:r8>
  </property>
  <property fmtid="{D5CDD505-2E9C-101B-9397-08002B2CF9AE}" pid="10" name="MailAddress">
    <vt:lpwstr>linux-lvm@ez-darmstadt.telekom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Eigene Dateien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