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90815"/>
        <c:axId val="48379323"/>
      </c:barChart>
      <c:catAx>
        <c:axId val="48290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79323"/>
        <c:crosses val="autoZero"/>
        <c:auto val="1"/>
        <c:lblAlgn val="ctr"/>
        <c:lblOffset val="100"/>
        <c:noMultiLvlLbl val="0"/>
      </c:catAx>
      <c:valAx>
        <c:axId val="48379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0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919-F82F-42FC-810C-C8E52386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F34-9CB6-4F7E-8448-9CCE37D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174-66D9-4B60-BAC1-2D4915F0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4D2-1129-4BF1-B7CE-CEE35EDB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6DF-16F1-4159-AA49-93295D3F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341-0505-4AED-A476-52DAEF2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168-0EF7-485E-8696-61CAEB0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29B-0734-4323-8B67-47F94FE0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409-B86B-4919-9DE4-0E8166FC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0D8-B9EF-42EE-B8B4-282AB20A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91F-61B3-42A0-89BC-5477706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189-3428-463D-B7B5-708B073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07657-9141-47FF-AB75-7F93949D23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