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93442"/>
        <c:axId val="99699301"/>
      </c:barChart>
      <c:catAx>
        <c:axId val="208934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99301"/>
        <c:crosses val="autoZero"/>
        <c:auto val="1"/>
        <c:lblAlgn val="ctr"/>
        <c:lblOffset val="100"/>
        <c:noMultiLvlLbl val="0"/>
      </c:catAx>
      <c:valAx>
        <c:axId val="996993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934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1937-02C7-4D87-BC91-5C544704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29C-EAC6-4AD9-9604-ADA358C9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395-9A2D-4995-B7D3-43C2DC87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DC6-40C0-4A93-A580-2936B759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1BD0-F136-4E78-BF70-D474D4BF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72AD-343E-4923-B2C7-8FAF1D07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15A8-751D-42A5-BC2A-02AFD1F0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60C-0CB0-4184-B9C1-6B478ADA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405C-02E8-44F9-AE95-8A5C70CC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48A-CC4A-4FBD-88BD-E97BC2BF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4DD6-1530-4DD7-83D0-4C8AFC96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451-6BA1-490F-8318-41DB2C80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FE3AC-C53D-4115-A2EC-53929EAC18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