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22394"/>
        <c:axId val="46361411"/>
      </c:barChart>
      <c:catAx>
        <c:axId val="58422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1411"/>
        <c:crosses val="autoZero"/>
        <c:auto val="1"/>
        <c:lblAlgn val="ctr"/>
        <c:lblOffset val="100"/>
        <c:noMultiLvlLbl val="0"/>
      </c:catAx>
      <c:valAx>
        <c:axId val="46361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22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822-F030-4904-8F2D-1D9FEDC2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A22-AB56-4F94-9C77-881B8F5F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B72-BC5C-48A8-B0E3-20429352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2C1-9679-4F89-8A3E-F025E01B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C39-3F43-45E0-BF48-44EEBF47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E76-AB73-4792-A297-BC4E7D0E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A9A-F497-4A9E-9E9A-0A2B2F88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1E9-B123-4E10-84BC-7AAD13AC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86A-A55D-4CC0-AA02-AB0460E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E86-EADF-4C06-BE92-F2D21ED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73B-206D-48F5-9144-D2ABC7F8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839-263E-43E4-BA2B-619A2206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C78A8-A413-4108-8066-586C237BA9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