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21457"/>
        <c:axId val="90856886"/>
      </c:barChart>
      <c:catAx>
        <c:axId val="10521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56886"/>
        <c:crosses val="autoZero"/>
        <c:auto val="1"/>
        <c:lblAlgn val="ctr"/>
        <c:lblOffset val="100"/>
        <c:noMultiLvlLbl val="0"/>
      </c:catAx>
      <c:valAx>
        <c:axId val="90856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21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AA7-3BD2-4618-90F0-FB2159FF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8CE-9B26-4E71-A3B3-103DFB30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63B-1639-4B2E-B319-5F2B2AAA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EB6-4FAD-4D17-9B41-CDE62409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C6A-8650-4F64-9613-064A0C26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0CC-CB32-4967-BC1E-6A1F0A7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EE8-F201-4F23-99F1-81D4D14A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50B-D024-4B0F-99E4-4F6DCAE3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DC8-8DB9-49A1-B3CB-AD6EE5B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0E0-3737-4D41-BAD8-C370743C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21F-939E-4194-B3A7-841EAF4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9DB-659A-4DF0-B827-E3FA7C4E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A4476-CC80-44BC-AA20-D19EC7EED6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