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5269631"/>
        <c:axId val="20623460"/>
      </c:barChart>
      <c:catAx>
        <c:axId val="4526963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623460"/>
        <c:crosses val="autoZero"/>
        <c:auto val="1"/>
        <c:lblAlgn val="ctr"/>
        <c:lblOffset val="100"/>
        <c:noMultiLvlLbl val="0"/>
      </c:catAx>
      <c:valAx>
        <c:axId val="2062346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26963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99C6-2877-4E36-8E43-099D56602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5D14-0A5F-4B57-B6C0-32F0A940A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7BEE-D17D-4B3B-9ECF-08D1C3748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96F8-BACF-453A-8FDA-A004BF8FE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EE85-BB86-430B-9877-DAA297598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C913-61C2-4AB6-99B0-A72464406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3D3F-E311-41FD-9D4D-095B9E0B0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0F11-F0D7-442B-BBA9-8A3C9824E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6704-459E-4F73-81C6-598313E07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543E-B33E-417E-89AB-964F99064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B88E-527A-4E13-9409-115C54D2E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4845-69DE-492F-BD64-011CC9C6F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E58087-33F7-4170-9926-6C11792449F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