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55528"/>
        <c:axId val="97435874"/>
      </c:barChart>
      <c:catAx>
        <c:axId val="87455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35874"/>
        <c:crosses val="autoZero"/>
        <c:auto val="1"/>
        <c:lblAlgn val="ctr"/>
        <c:lblOffset val="100"/>
        <c:noMultiLvlLbl val="0"/>
      </c:catAx>
      <c:valAx>
        <c:axId val="97435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55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46F-A6BC-49CF-8F0F-26A750C1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186-72C8-47CB-9CB9-F6E494F3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F7E-23F1-4D71-B1E3-9BB61606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662-6DB9-4D7F-8BC9-ABC5259C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8F2-C706-4126-873B-812F5BCF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416-6523-4B6E-ABE6-8C7FE9C2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96C-D83B-4FB2-87A7-9D10AFA0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53F-B31A-49D2-9611-A9456E55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89B-FDB5-476D-ACFE-00EE92AD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F2F-4ABA-4BA3-9164-7E93E9F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1CE-99C8-4303-9F39-0B3B514E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0B2-91DC-4112-81EE-B85A4FD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7BF77-7169-4807-87FD-ABCF2471DE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