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61317"/>
        <c:axId val="94178023"/>
      </c:barChart>
      <c:catAx>
        <c:axId val="89061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78023"/>
        <c:crosses val="autoZero"/>
        <c:auto val="1"/>
        <c:lblAlgn val="ctr"/>
        <c:lblOffset val="100"/>
        <c:noMultiLvlLbl val="0"/>
      </c:catAx>
      <c:valAx>
        <c:axId val="94178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61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EF6C-3DC8-47D9-813C-24A65436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EEB-73D2-42A4-9C80-93F3EA65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B63-0DA7-4488-B75A-80B6DE0D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106A-855E-47C3-825C-70F2FC1C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D9A-5B2C-489F-A2A5-44A99CEB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578-7F98-4A12-A3F1-C85E6E17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88D-0CC2-4159-8602-9F6A5C0D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B58-E335-4E65-9D00-690DE165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4A7-C308-4763-8A93-EB03DA6F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76D-C29E-448C-B06C-248FC247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BE4-45FD-423E-B489-1433D863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45A-AA49-4C52-A17D-9A0FFCF9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24EB7-2E6F-4AE8-85CF-D38578CA05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