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82097"/>
        <c:axId val="33622581"/>
      </c:barChart>
      <c:catAx>
        <c:axId val="74382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22581"/>
        <c:crosses val="autoZero"/>
        <c:auto val="1"/>
        <c:lblAlgn val="ctr"/>
        <c:lblOffset val="100"/>
        <c:noMultiLvlLbl val="0"/>
      </c:catAx>
      <c:valAx>
        <c:axId val="33622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82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445-4121-4180-959E-C782D147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C4E-22D8-4CEA-942D-B4D6C6C6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E8F-3805-439F-8A80-B85F654E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E7C-D954-42F8-BCF0-9F53E5D7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348-31DD-4ABA-9A3E-ECA0A528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8C9-4C5F-4A36-94AD-855D9419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760-2648-4962-9B92-97B1064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961-688F-488A-A840-E6668BC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F38-8263-48B3-9CE2-2752798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C99-15E9-4005-9616-A9903FC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DDC-7225-4A09-9E18-198CD1F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698-637B-4F94-98B8-EF1B879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930BC-AC04-406C-920E-08C4FD8F4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