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53383"/>
        <c:axId val="20172085"/>
      </c:barChart>
      <c:catAx>
        <c:axId val="65053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2085"/>
        <c:crosses val="autoZero"/>
        <c:auto val="1"/>
        <c:lblAlgn val="ctr"/>
        <c:lblOffset val="100"/>
        <c:noMultiLvlLbl val="0"/>
      </c:catAx>
      <c:valAx>
        <c:axId val="20172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3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188-6576-4B35-9EBB-E176D49E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25E-5037-479A-9A14-3429632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2C3-FCE0-4AF0-9DB3-9803C2ED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872-5AF4-4132-87EB-FC9AFE2D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90B-21F3-4C8D-8537-C623A8D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358-EC58-4086-A858-B5868AE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E62-5DDF-4135-A6A5-8A512AE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F33-E69A-485F-B131-25CEBE2F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785-1EE5-4F85-A9A0-FE7A3E3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C26-7A4A-45FC-8DD4-26BB1A7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EF2-CE6B-47DF-9477-57DD240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2B1-FD4F-401B-9672-F40B842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47D9E-7110-4E89-AF7D-48853F6EE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