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24296"/>
        <c:axId val="72565928"/>
      </c:barChart>
      <c:catAx>
        <c:axId val="45424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65928"/>
        <c:crosses val="autoZero"/>
        <c:auto val="1"/>
        <c:lblAlgn val="ctr"/>
        <c:lblOffset val="100"/>
        <c:noMultiLvlLbl val="0"/>
      </c:catAx>
      <c:valAx>
        <c:axId val="72565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24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344-F400-47A0-A60C-254BB5A3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A7B-0590-4EBD-A744-BAC98607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011-84E0-42BB-9388-7F03F0B0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088-1E5B-4FE3-8E51-9632B227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BD5-BD7B-4547-A051-CFCBA03B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937-0FBB-45B0-AFD1-BA890162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1CA-3EC0-4F06-9E04-9DC92D67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D99-CD49-4C47-9853-97AFF613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AE6-275D-4125-B961-534C3E0E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EF1-0576-4792-8509-A8427F6B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2E2-8CF7-4850-BAD0-9E490A0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89A-F30B-475D-B595-00CB9EA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B15EB-E8CA-439B-BB65-CEF2342D28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