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61550"/>
        <c:axId val="54379282"/>
      </c:barChart>
      <c:catAx>
        <c:axId val="45061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79282"/>
        <c:crosses val="autoZero"/>
        <c:auto val="1"/>
        <c:lblAlgn val="ctr"/>
        <c:lblOffset val="100"/>
        <c:noMultiLvlLbl val="0"/>
      </c:catAx>
      <c:valAx>
        <c:axId val="543792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61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517-8FA9-4F1F-B2C0-5F9AA744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5405-B4C0-43F9-994B-B6B014BE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BF8-6D2E-4CA5-8B70-B13C0720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F30-91C9-4329-A8A3-9534C0E3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363-506B-4ED7-8238-BB0F29FE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EA36-49B8-49FB-BDD5-77BB2996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206-1875-4F37-894F-2CA62A35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CE2-7EEA-4EBE-80F9-506CC6DB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734-8221-46E4-BC9B-F9AD930E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37F-D7BA-4693-96C4-7C0D0F6C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9E7-57C3-4CC5-80C0-EADE4FC5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B887-D4A7-4892-BE32-BE66ED24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5684F-64C7-45D1-8093-325B7CD891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