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165328"/>
        <c:axId val="357955"/>
      </c:barChart>
      <c:catAx>
        <c:axId val="431653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955"/>
        <c:crosses val="autoZero"/>
        <c:auto val="1"/>
        <c:lblAlgn val="ctr"/>
        <c:lblOffset val="100"/>
        <c:noMultiLvlLbl val="0"/>
      </c:catAx>
      <c:valAx>
        <c:axId val="3579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1653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1391-54DA-49DB-BF74-7E32FDE4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605D-07BA-4860-AE26-247649D2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F846-7738-4533-9708-9C65BD234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5182-5783-4E11-B452-509168A1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8F49-2D93-463E-95C1-0645A860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3BB7-010A-46DF-85B5-3292FD83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6C90-C67C-4682-87A9-A827C84E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6609-28F0-4206-8969-E8C73CBD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FD36-7348-457E-A016-74782B4E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808A-A430-4C53-8909-6FE42CE4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A7E5-8C1E-424E-BA8C-05FB7740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AE14-E21B-4546-B664-F266DB55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99462-52A5-4DBE-B417-7F701DB00F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