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46898"/>
        <c:axId val="60466637"/>
      </c:barChart>
      <c:catAx>
        <c:axId val="25846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66637"/>
        <c:crosses val="autoZero"/>
        <c:auto val="1"/>
        <c:lblAlgn val="ctr"/>
        <c:lblOffset val="100"/>
        <c:noMultiLvlLbl val="0"/>
      </c:catAx>
      <c:valAx>
        <c:axId val="604666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46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B76-2C1A-4330-84BA-9FD94E4E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40AF-7058-41AD-9222-4B04B052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2BF6-A5B1-47FA-8937-81D0CE40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19B-979D-478B-A980-CC0D8AD6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B6C-A580-4FBD-93BB-84B56E7E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F155-1C08-46CF-B849-8521BEC9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2DA-F514-41FD-95BA-B379F41D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FEC-58EF-4621-B98A-0B02E916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2A6-5E5F-4E9F-87E9-98ECD1EC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35D-6E39-445C-98A9-81E165D7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DEB8-85F1-49C6-8371-923EE70E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BCD-19FA-4BAB-8DDA-42641C4C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568F0-D1DB-4E0B-A0A3-43322B1644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