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23295"/>
        <c:axId val="94888932"/>
      </c:barChart>
      <c:catAx>
        <c:axId val="27023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8932"/>
        <c:crosses val="autoZero"/>
        <c:auto val="1"/>
        <c:lblAlgn val="ctr"/>
        <c:lblOffset val="100"/>
        <c:noMultiLvlLbl val="0"/>
      </c:catAx>
      <c:valAx>
        <c:axId val="94888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3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4DA-516F-45F0-88A0-6C2F69E3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0E7-BA44-4B10-8EC1-264EF44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DA5-8851-42AE-90E5-9B0BDDC6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7AA-7BEB-41C4-9338-E1B39463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C97-C771-4209-94EA-36E54A2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850-F56D-4DEA-B8A0-1F2B62B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8CA-8E8F-4690-8E65-619A63A5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D36-12D5-4D02-9FE3-9123C00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2E9-05BA-4941-9F33-D702326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9A6-D98F-4E9D-A91B-0BBF9D0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A31-C654-46C0-9086-07064F7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457-ECEE-4583-B6EA-2CFBBB3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DCE43-C5FF-44D9-B043-24EF92245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