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41885"/>
        <c:axId val="12734116"/>
      </c:barChart>
      <c:catAx>
        <c:axId val="35641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34116"/>
        <c:crosses val="autoZero"/>
        <c:auto val="1"/>
        <c:lblAlgn val="ctr"/>
        <c:lblOffset val="100"/>
        <c:noMultiLvlLbl val="0"/>
      </c:catAx>
      <c:valAx>
        <c:axId val="12734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41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0D1-32E4-44E3-902F-3ACBDBB7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280-B77D-478B-ADFB-769A9D4B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F8F-D2B6-4A9C-A21C-E5B14ADE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14D-9AD0-4246-BBD0-C535FCDC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60A-0816-469E-A284-FBDD947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FF3-34BC-4964-A3B8-54A666E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A7A-591E-435C-934B-8389168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A90-5868-40FA-B857-6D9F6363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51E-492C-4B16-AB76-4ED7D4AA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95C-5C5B-44B0-8C2E-98AD3670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A51-BFF0-45D3-B95A-C97006C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7EE-E00F-4CF6-9E9D-5192809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C6A0D-7715-450E-B972-8AE8A70A87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