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23208"/>
        <c:axId val="47934264"/>
      </c:barChart>
      <c:catAx>
        <c:axId val="683232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34264"/>
        <c:crosses val="autoZero"/>
        <c:auto val="1"/>
        <c:lblAlgn val="ctr"/>
        <c:lblOffset val="100"/>
        <c:noMultiLvlLbl val="0"/>
      </c:catAx>
      <c:valAx>
        <c:axId val="479342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232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D5F-A161-41C6-AFBC-2283A2EA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3627-2A0C-420C-AA2C-3AA2A974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9B7-561B-47DE-85E6-E516C9B3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7B6-BB0F-4625-98E4-4BC3BBAB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B598-1261-40BE-8A2F-8EB60DA8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A4F-216D-4B61-84DD-1C823A32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B66-8D65-4662-9749-4485FF62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B69-F64E-44DC-A1D2-3BD8148C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AD0E-462C-4BC7-8C7F-E560DDC2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DA0-5226-4341-8FF6-EA3F53F6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505-33F4-498E-8774-E543D448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A327-28E1-4C37-AF9C-DDC3AB39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1468C-3A57-4319-98A0-8A9F6E9DE5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