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09948"/>
        <c:axId val="62481383"/>
      </c:barChart>
      <c:catAx>
        <c:axId val="675099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81383"/>
        <c:crosses val="autoZero"/>
        <c:auto val="1"/>
        <c:lblAlgn val="ctr"/>
        <c:lblOffset val="100"/>
        <c:noMultiLvlLbl val="0"/>
      </c:catAx>
      <c:valAx>
        <c:axId val="624813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099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C68E-7ACF-4187-8751-A0B2D353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713-FEAF-4FEE-8BC3-1548DE07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92EF-D561-4683-84A9-9606F46A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D8C1-CC33-4F54-9340-3386B1FE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5656-C0C4-4E4E-8B2F-1E632064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49D-97AD-440F-9348-7E9E3D29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698-2B9D-4E3B-8B6B-2E993DFE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732-5F90-4209-8B00-83062AD1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E648-44AA-4C5D-A92C-FCF9AA5B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48EA-3FD2-456C-A15F-0B33D0B5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F94F-D219-4EAE-BE15-5562F40D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07D-F4FB-4F62-8B87-BB3AAB8D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DB2F9-EB64-4306-B39D-8C06D631CF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