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07862"/>
        <c:axId val="84959314"/>
      </c:barChart>
      <c:catAx>
        <c:axId val="87507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59314"/>
        <c:crosses val="autoZero"/>
        <c:auto val="1"/>
        <c:lblAlgn val="ctr"/>
        <c:lblOffset val="100"/>
        <c:noMultiLvlLbl val="0"/>
      </c:catAx>
      <c:valAx>
        <c:axId val="84959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07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963-A887-419E-9025-D68BB136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146-4AA8-41F7-B169-247BD81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39E-DFAE-4A48-87C0-0E96B61D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B11-572F-4679-9823-583F5444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DDE-031B-42ED-8CCA-80454638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15F-BBED-4304-BFDA-68F3CB4A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905-C7BD-4B8D-BAF3-3BDF0A0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6A6-91B5-4FC4-92BC-166D164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BCB-441E-4897-A12C-BF4749C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CF5-FD2A-4D9D-9705-828883B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902-BFF9-43D8-9EFC-FEA1EF8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83E-372F-476B-BAE7-F5EEC10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EC44-0946-4B67-9E21-4CC1402DC7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