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8855"/>
        <c:axId val="57490821"/>
      </c:barChart>
      <c:catAx>
        <c:axId val="4838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0821"/>
        <c:crosses val="autoZero"/>
        <c:auto val="1"/>
        <c:lblAlgn val="ctr"/>
        <c:lblOffset val="100"/>
        <c:noMultiLvlLbl val="0"/>
      </c:catAx>
      <c:valAx>
        <c:axId val="57490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4A6-5450-4D33-910A-5350E1BA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4E8-07DB-418E-BF6C-F63D1FE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E08-A5BF-441D-B9E6-1F74475E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4A2-1D04-46E0-92AC-FFAF2D95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67A-31D0-4252-AFA1-BE8892E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714-33BC-418A-B80B-1F5FDC5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93A-F1BC-4AD1-A8E1-B54B50B8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326-4E2F-47B0-8C4A-E192117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586-E586-4D75-9842-DACDA62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F5E-0D90-48B2-B98A-9D3A7DF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281-0C71-42FC-8604-FD44904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002-E14C-40D1-A0C3-37B2BB8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B2270-4B44-42A8-95BA-5DB3CFDB2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