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276"/>
        <c:axId val="152107"/>
      </c:barChart>
      <c:catAx>
        <c:axId val="630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107"/>
        <c:crosses val="autoZero"/>
        <c:auto val="1"/>
        <c:lblAlgn val="ctr"/>
        <c:lblOffset val="100"/>
        <c:noMultiLvlLbl val="0"/>
      </c:catAx>
      <c:valAx>
        <c:axId val="152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9F8-4C4B-49F6-9790-146EDE0D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733-8695-401D-A2FE-403E08B9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9FA-DBEA-43A2-9719-C1C8EE10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BE5-3C42-4EC0-8469-467BA30D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01E-40FC-4FA1-967E-C3EDFE27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41C-287B-4584-B6D0-FD98456B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6B5-F4CC-4CE2-8798-E7062494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464-C833-4EE8-90DD-6EDA7F54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8DA-0BCF-475D-960B-3203B38A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D7C-11CC-4B95-92C1-EBA99CAE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963-0957-457E-97B1-9E119B33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A3B8-C02A-42A1-81D2-21BE2C1C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ABF2B-5C48-4EB6-A0D9-8B9F0AE41D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