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99760"/>
        <c:axId val="59167601"/>
      </c:barChart>
      <c:catAx>
        <c:axId val="198997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67601"/>
        <c:crosses val="autoZero"/>
        <c:auto val="1"/>
        <c:lblAlgn val="ctr"/>
        <c:lblOffset val="100"/>
        <c:noMultiLvlLbl val="0"/>
      </c:catAx>
      <c:valAx>
        <c:axId val="591676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997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5C9-E132-4CC4-8DF2-9ED90267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5E1E-9847-4C0D-80DB-DB6145F1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942-22AE-4611-A45B-D5838158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AC14-E653-4C41-8276-613E09A5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D836-CDF6-40D6-88A9-E2B5F2C2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85C1-3957-4F44-8B71-FAA7A35F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BE0A-1D9B-4CC7-8324-1AF1DF6B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192A-77C8-4A79-B1F1-E6A3314C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665F-9738-4088-A963-A2D9D97E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E45E-0385-4E66-9C4E-1B77C0CB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5A83-3A7C-45C6-B24A-D8A36C1A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2B0D-030B-4048-80F5-68841A64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BCAC4-9984-422C-A188-4F3F6708DA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