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94757"/>
        <c:axId val="85372787"/>
      </c:barChart>
      <c:catAx>
        <c:axId val="95694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72787"/>
        <c:crosses val="autoZero"/>
        <c:auto val="1"/>
        <c:lblAlgn val="ctr"/>
        <c:lblOffset val="100"/>
        <c:noMultiLvlLbl val="0"/>
      </c:catAx>
      <c:valAx>
        <c:axId val="85372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94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56D-9183-4625-B9AE-CC750CE2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02B-2EC6-4D1D-A293-DFCA274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7E4-B9F2-45C2-9F4E-1E73954F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81C-1972-4FCF-9988-197331F3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521-CBE3-4BEC-BC86-D14835F5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43D-75A9-4136-8EDF-C0AF658E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868-ADDA-4C89-A1A3-75430165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20C-8E29-4EB0-878B-8354F53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761-F198-45B2-A271-B48EE8E0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CC5-F985-46B5-A399-C47983C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455-F4C3-4BCD-AAFC-DD04FB85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2F2-B29C-4D66-B235-167C5FF0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BD237-0C8F-4173-AD23-109E3B642F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