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86967"/>
        <c:axId val="21629470"/>
      </c:barChart>
      <c:catAx>
        <c:axId val="59086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29470"/>
        <c:crosses val="autoZero"/>
        <c:auto val="1"/>
        <c:lblAlgn val="ctr"/>
        <c:lblOffset val="100"/>
        <c:noMultiLvlLbl val="0"/>
      </c:catAx>
      <c:valAx>
        <c:axId val="21629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86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EDB-FAF6-443D-9099-1C550BE7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E86-F16E-481E-9E2B-9EE03A67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50D-ECCE-4D54-8E59-ABB94195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19E-ED3D-4760-8F58-D284D366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584-BE61-45CD-B445-BB3D3805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7E7-6736-4182-AD23-758C656F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6F9-215B-4387-9657-11FDC296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99D-E0CF-461F-88E3-FC55E8F9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2DF-9B37-4C4D-985A-73F9B798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B1E0-0FB8-41B4-AB09-68F9E431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474-2AB6-4474-A3D8-195B231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A94-7E0A-41D1-AA7E-822DBB9D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62FB4-850B-4815-8131-91D5250A3E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